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61B-7198-4558-A5EA-22FD8346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CCF-9E81-48DB-B2FC-36495FDE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18D-4928-479F-AA9F-0C4AF9A5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324-8A5C-4E32-A913-ABA9599E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C2A-D7A4-4E7A-B01A-DADF07F7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D11-634A-4BFF-8BB4-AA6C2E1C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F38-87BE-4E05-819D-0A1FD8FA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A50-0D92-427E-B05E-36634D10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56D-9681-4003-BC73-510CFB4C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660-38F0-4D4C-9072-E97E1822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94A-C1C9-40A2-82CA-0A9052F5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18F-788D-4027-BD26-E003D1E3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A5C2-B876-464C-ABF2-A5E00C4F4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tures, Solutions, Elements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9907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243828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4290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7621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28195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5909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1337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752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7621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895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12193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42900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3733920"/>
            <a:ext cx="243828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6576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6576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48769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1008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57150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5627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60199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3352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14300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6858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2952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733920"/>
            <a:ext cx="205740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334120"/>
            <a:ext cx="144792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533520"/>
            <a:ext cx="83808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91440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133720"/>
            <a:ext cx="12189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209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9072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1066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40120" y="63360"/>
            <a:ext cx="1479600" cy="382680"/>
          </a:xfrm>
          <a:custGeom>
            <a:avLst/>
            <a:gdLst/>
            <a:ahLst/>
            <a:rect l="l" t="t" r="r" b="b"/>
            <a:pathLst>
              <a:path w="4111" h="1063">
                <a:moveTo>
                  <a:pt x="10706" y="597"/>
                </a:moveTo>
                <a:cubicBezTo>
                  <a:pt x="10702" y="648"/>
                  <a:pt x="10703" y="699"/>
                  <a:pt x="10698" y="751"/>
                </a:cubicBezTo>
                <a:cubicBezTo>
                  <a:pt x="10690" y="836"/>
                  <a:pt x="10680" y="922"/>
                  <a:pt x="10670" y="1007"/>
                </a:cubicBezTo>
                <a:cubicBezTo>
                  <a:pt x="10667" y="1032"/>
                  <a:pt x="10665" y="1038"/>
                  <a:pt x="10672" y="1053"/>
                </a:cubicBezTo>
                <a:cubicBezTo>
                  <a:pt x="10711" y="986"/>
                  <a:pt x="10743" y="916"/>
                  <a:pt x="10780" y="848"/>
                </a:cubicBezTo>
                <a:cubicBezTo>
                  <a:pt x="10805" y="802"/>
                  <a:pt x="10845" y="706"/>
                  <a:pt x="10907" y="700"/>
                </a:cubicBezTo>
                <a:cubicBezTo>
                  <a:pt x="10948" y="696"/>
                  <a:pt x="10988" y="754"/>
                  <a:pt x="11009" y="781"/>
                </a:cubicBezTo>
                <a:cubicBezTo>
                  <a:pt x="11041" y="824"/>
                  <a:pt x="11062" y="873"/>
                  <a:pt x="11083" y="922"/>
                </a:cubicBezTo>
                <a:cubicBezTo>
                  <a:pt x="11093" y="944"/>
                  <a:pt x="11095" y="949"/>
                  <a:pt x="11099" y="964"/>
                </a:cubicBezTo>
                <a:cubicBezTo>
                  <a:pt x="11111" y="905"/>
                  <a:pt x="11129" y="849"/>
                  <a:pt x="11152" y="793"/>
                </a:cubicBezTo>
                <a:cubicBezTo>
                  <a:pt x="11179" y="728"/>
                  <a:pt x="11217" y="658"/>
                  <a:pt x="11268" y="608"/>
                </a:cubicBezTo>
                <a:cubicBezTo>
                  <a:pt x="11311" y="566"/>
                  <a:pt x="11346" y="565"/>
                  <a:pt x="11388" y="606"/>
                </a:cubicBezTo>
                <a:cubicBezTo>
                  <a:pt x="11438" y="655"/>
                  <a:pt x="11467" y="716"/>
                  <a:pt x="11499" y="777"/>
                </a:cubicBezTo>
                <a:cubicBezTo>
                  <a:pt x="11530" y="837"/>
                  <a:pt x="11547" y="934"/>
                  <a:pt x="11582" y="986"/>
                </a:cubicBezTo>
                <a:cubicBezTo>
                  <a:pt x="11601" y="995"/>
                  <a:pt x="11607" y="997"/>
                  <a:pt x="11609" y="1012"/>
                </a:cubicBezTo>
              </a:path>
              <a:path w="4111" h="1063">
                <a:moveTo>
                  <a:pt x="12195" y="855"/>
                </a:moveTo>
                <a:cubicBezTo>
                  <a:pt x="12223" y="825"/>
                  <a:pt x="12233" y="804"/>
                  <a:pt x="12232" y="761"/>
                </a:cubicBezTo>
                <a:cubicBezTo>
                  <a:pt x="12231" y="724"/>
                  <a:pt x="12205" y="705"/>
                  <a:pt x="12168" y="708"/>
                </a:cubicBezTo>
                <a:cubicBezTo>
                  <a:pt x="12101" y="714"/>
                  <a:pt x="12037" y="771"/>
                  <a:pt x="11990" y="814"/>
                </a:cubicBezTo>
                <a:cubicBezTo>
                  <a:pt x="11928" y="870"/>
                  <a:pt x="11868" y="943"/>
                  <a:pt x="11840" y="1023"/>
                </a:cubicBezTo>
                <a:cubicBezTo>
                  <a:pt x="11821" y="1077"/>
                  <a:pt x="11830" y="1128"/>
                  <a:pt x="11886" y="1151"/>
                </a:cubicBezTo>
                <a:cubicBezTo>
                  <a:pt x="11943" y="1174"/>
                  <a:pt x="12010" y="1152"/>
                  <a:pt x="12062" y="1127"/>
                </a:cubicBezTo>
                <a:cubicBezTo>
                  <a:pt x="12143" y="1088"/>
                  <a:pt x="12193" y="1018"/>
                  <a:pt x="12219" y="934"/>
                </a:cubicBezTo>
                <a:cubicBezTo>
                  <a:pt x="12224" y="912"/>
                  <a:pt x="12226" y="906"/>
                  <a:pt x="12225" y="892"/>
                </a:cubicBezTo>
                <a:cubicBezTo>
                  <a:pt x="12208" y="848"/>
                  <a:pt x="12224" y="918"/>
                  <a:pt x="12226" y="929"/>
                </a:cubicBezTo>
                <a:cubicBezTo>
                  <a:pt x="12229" y="950"/>
                  <a:pt x="12244" y="1015"/>
                  <a:pt x="12262" y="1026"/>
                </a:cubicBezTo>
                <a:cubicBezTo>
                  <a:pt x="12289" y="1030"/>
                  <a:pt x="12297" y="1030"/>
                  <a:pt x="12306" y="1047"/>
                </a:cubicBezTo>
              </a:path>
              <a:path w="4111" h="1063">
                <a:moveTo>
                  <a:pt x="12958" y="324"/>
                </a:moveTo>
                <a:cubicBezTo>
                  <a:pt x="12931" y="367"/>
                  <a:pt x="12918" y="413"/>
                  <a:pt x="12904" y="463"/>
                </a:cubicBezTo>
                <a:cubicBezTo>
                  <a:pt x="12846" y="671"/>
                  <a:pt x="12807" y="882"/>
                  <a:pt x="12814" y="1098"/>
                </a:cubicBezTo>
                <a:cubicBezTo>
                  <a:pt x="12816" y="1162"/>
                  <a:pt x="12826" y="1146"/>
                  <a:pt x="12883" y="1139"/>
                </a:cubicBezTo>
              </a:path>
              <a:path w="4111" h="1063">
                <a:moveTo>
                  <a:pt x="13299" y="176"/>
                </a:moveTo>
                <a:cubicBezTo>
                  <a:pt x="13289" y="241"/>
                  <a:pt x="13274" y="304"/>
                  <a:pt x="13260" y="368"/>
                </a:cubicBezTo>
                <a:cubicBezTo>
                  <a:pt x="13234" y="491"/>
                  <a:pt x="13214" y="614"/>
                  <a:pt x="13198" y="738"/>
                </a:cubicBezTo>
                <a:cubicBezTo>
                  <a:pt x="13183" y="851"/>
                  <a:pt x="13168" y="967"/>
                  <a:pt x="13165" y="1081"/>
                </a:cubicBezTo>
                <a:cubicBezTo>
                  <a:pt x="13163" y="1136"/>
                  <a:pt x="13167" y="1184"/>
                  <a:pt x="13160" y="1238"/>
                </a:cubicBezTo>
              </a:path>
              <a:path w="4111" h="1063">
                <a:moveTo>
                  <a:pt x="12630" y="686"/>
                </a:moveTo>
                <a:cubicBezTo>
                  <a:pt x="12660" y="725"/>
                  <a:pt x="12701" y="745"/>
                  <a:pt x="12754" y="761"/>
                </a:cubicBezTo>
                <a:cubicBezTo>
                  <a:pt x="12863" y="793"/>
                  <a:pt x="12976" y="794"/>
                  <a:pt x="13089" y="783"/>
                </a:cubicBezTo>
                <a:cubicBezTo>
                  <a:pt x="13187" y="774"/>
                  <a:pt x="13284" y="748"/>
                  <a:pt x="13378" y="721"/>
                </a:cubicBezTo>
              </a:path>
              <a:path w="4111" h="1063">
                <a:moveTo>
                  <a:pt x="13627" y="858"/>
                </a:moveTo>
                <a:cubicBezTo>
                  <a:pt x="13647" y="892"/>
                  <a:pt x="13669" y="893"/>
                  <a:pt x="13714" y="888"/>
                </a:cubicBezTo>
                <a:cubicBezTo>
                  <a:pt x="13770" y="882"/>
                  <a:pt x="13823" y="857"/>
                  <a:pt x="13869" y="825"/>
                </a:cubicBezTo>
                <a:cubicBezTo>
                  <a:pt x="13909" y="797"/>
                  <a:pt x="13955" y="759"/>
                  <a:pt x="13952" y="705"/>
                </a:cubicBezTo>
                <a:cubicBezTo>
                  <a:pt x="13949" y="655"/>
                  <a:pt x="13901" y="623"/>
                  <a:pt x="13860" y="608"/>
                </a:cubicBezTo>
                <a:cubicBezTo>
                  <a:pt x="13801" y="586"/>
                  <a:pt x="13744" y="603"/>
                  <a:pt x="13698" y="645"/>
                </a:cubicBezTo>
                <a:cubicBezTo>
                  <a:pt x="13647" y="691"/>
                  <a:pt x="13612" y="759"/>
                  <a:pt x="13602" y="827"/>
                </a:cubicBezTo>
                <a:cubicBezTo>
                  <a:pt x="13592" y="897"/>
                  <a:pt x="13610" y="963"/>
                  <a:pt x="13659" y="1014"/>
                </a:cubicBezTo>
                <a:cubicBezTo>
                  <a:pt x="13710" y="1067"/>
                  <a:pt x="13794" y="1084"/>
                  <a:pt x="13865" y="1074"/>
                </a:cubicBezTo>
                <a:cubicBezTo>
                  <a:pt x="13889" y="1067"/>
                  <a:pt x="13914" y="1060"/>
                  <a:pt x="13938" y="1053"/>
                </a:cubicBezTo>
              </a:path>
              <a:path w="4111" h="1063">
                <a:moveTo>
                  <a:pt x="14269" y="671"/>
                </a:moveTo>
                <a:cubicBezTo>
                  <a:pt x="14255" y="725"/>
                  <a:pt x="14248" y="778"/>
                  <a:pt x="14243" y="834"/>
                </a:cubicBezTo>
                <a:cubicBezTo>
                  <a:pt x="14240" y="872"/>
                  <a:pt x="14237" y="910"/>
                  <a:pt x="14232" y="947"/>
                </a:cubicBezTo>
                <a:cubicBezTo>
                  <a:pt x="14277" y="889"/>
                  <a:pt x="14313" y="825"/>
                  <a:pt x="14363" y="770"/>
                </a:cubicBezTo>
                <a:cubicBezTo>
                  <a:pt x="14446" y="678"/>
                  <a:pt x="14551" y="592"/>
                  <a:pt x="14664" y="541"/>
                </a:cubicBezTo>
                <a:cubicBezTo>
                  <a:pt x="14720" y="523"/>
                  <a:pt x="14739" y="516"/>
                  <a:pt x="14777" y="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9480" y="647640"/>
            <a:ext cx="2278080" cy="487440"/>
          </a:xfrm>
          <a:custGeom>
            <a:avLst/>
            <a:gdLst/>
            <a:ahLst/>
            <a:rect l="l" t="t" r="r" b="b"/>
            <a:pathLst>
              <a:path w="6328" h="1356">
                <a:moveTo>
                  <a:pt x="3114" y="2258"/>
                </a:moveTo>
                <a:cubicBezTo>
                  <a:pt x="3062" y="2242"/>
                  <a:pt x="3046" y="2232"/>
                  <a:pt x="2989" y="2252"/>
                </a:cubicBezTo>
                <a:cubicBezTo>
                  <a:pt x="2909" y="2280"/>
                  <a:pt x="2833" y="2320"/>
                  <a:pt x="2761" y="2365"/>
                </a:cubicBezTo>
                <a:cubicBezTo>
                  <a:pt x="2690" y="2410"/>
                  <a:pt x="2620" y="2458"/>
                  <a:pt x="2558" y="2515"/>
                </a:cubicBezTo>
                <a:cubicBezTo>
                  <a:pt x="2518" y="2551"/>
                  <a:pt x="2521" y="2566"/>
                  <a:pt x="2519" y="2609"/>
                </a:cubicBezTo>
                <a:cubicBezTo>
                  <a:pt x="2581" y="2636"/>
                  <a:pt x="2639" y="2646"/>
                  <a:pt x="2708" y="2655"/>
                </a:cubicBezTo>
                <a:cubicBezTo>
                  <a:pt x="2815" y="2669"/>
                  <a:pt x="2941" y="2671"/>
                  <a:pt x="3036" y="2730"/>
                </a:cubicBezTo>
                <a:cubicBezTo>
                  <a:pt x="3079" y="2756"/>
                  <a:pt x="3112" y="2800"/>
                  <a:pt x="3119" y="2850"/>
                </a:cubicBezTo>
                <a:cubicBezTo>
                  <a:pt x="3129" y="2920"/>
                  <a:pt x="3078" y="2987"/>
                  <a:pt x="3026" y="3027"/>
                </a:cubicBezTo>
                <a:cubicBezTo>
                  <a:pt x="2915" y="3112"/>
                  <a:pt x="2766" y="3148"/>
                  <a:pt x="2629" y="3154"/>
                </a:cubicBezTo>
                <a:cubicBezTo>
                  <a:pt x="2601" y="3155"/>
                  <a:pt x="2459" y="3166"/>
                  <a:pt x="2445" y="3122"/>
                </a:cubicBezTo>
                <a:cubicBezTo>
                  <a:pt x="2448" y="3110"/>
                  <a:pt x="2451" y="3097"/>
                  <a:pt x="2454" y="3085"/>
                </a:cubicBezTo>
              </a:path>
              <a:path w="6328" h="1356">
                <a:moveTo>
                  <a:pt x="3488" y="2453"/>
                </a:moveTo>
                <a:cubicBezTo>
                  <a:pt x="3482" y="2516"/>
                  <a:pt x="3483" y="2580"/>
                  <a:pt x="3483" y="2644"/>
                </a:cubicBezTo>
                <a:cubicBezTo>
                  <a:pt x="3482" y="2742"/>
                  <a:pt x="3467" y="2852"/>
                  <a:pt x="3500" y="2947"/>
                </a:cubicBezTo>
                <a:cubicBezTo>
                  <a:pt x="3511" y="2979"/>
                  <a:pt x="3535" y="3009"/>
                  <a:pt x="3573" y="2999"/>
                </a:cubicBezTo>
                <a:cubicBezTo>
                  <a:pt x="3622" y="2986"/>
                  <a:pt x="3656" y="2942"/>
                  <a:pt x="3682" y="2902"/>
                </a:cubicBezTo>
                <a:cubicBezTo>
                  <a:pt x="3718" y="2846"/>
                  <a:pt x="3741" y="2783"/>
                  <a:pt x="3758" y="2718"/>
                </a:cubicBezTo>
                <a:cubicBezTo>
                  <a:pt x="3765" y="2685"/>
                  <a:pt x="3767" y="2675"/>
                  <a:pt x="3770" y="2653"/>
                </a:cubicBezTo>
                <a:cubicBezTo>
                  <a:pt x="3778" y="2712"/>
                  <a:pt x="3788" y="2774"/>
                  <a:pt x="3813" y="2829"/>
                </a:cubicBezTo>
                <a:cubicBezTo>
                  <a:pt x="3849" y="2910"/>
                  <a:pt x="3892" y="2948"/>
                  <a:pt x="3970" y="2983"/>
                </a:cubicBezTo>
                <a:cubicBezTo>
                  <a:pt x="4018" y="3004"/>
                  <a:pt x="4038" y="3009"/>
                  <a:pt x="4074" y="2986"/>
                </a:cubicBezTo>
              </a:path>
              <a:path w="6328" h="1356">
                <a:moveTo>
                  <a:pt x="4345" y="1799"/>
                </a:moveTo>
                <a:cubicBezTo>
                  <a:pt x="4336" y="1846"/>
                  <a:pt x="4331" y="1896"/>
                  <a:pt x="4324" y="1945"/>
                </a:cubicBezTo>
                <a:cubicBezTo>
                  <a:pt x="4306" y="2068"/>
                  <a:pt x="4290" y="2192"/>
                  <a:pt x="4278" y="2316"/>
                </a:cubicBezTo>
                <a:cubicBezTo>
                  <a:pt x="4265" y="2449"/>
                  <a:pt x="4253" y="2582"/>
                  <a:pt x="4250" y="2715"/>
                </a:cubicBezTo>
                <a:cubicBezTo>
                  <a:pt x="4248" y="2790"/>
                  <a:pt x="4253" y="2862"/>
                  <a:pt x="4263" y="2935"/>
                </a:cubicBezTo>
                <a:cubicBezTo>
                  <a:pt x="4291" y="2897"/>
                  <a:pt x="4304" y="2861"/>
                  <a:pt x="4321" y="2806"/>
                </a:cubicBezTo>
                <a:cubicBezTo>
                  <a:pt x="4354" y="2700"/>
                  <a:pt x="4386" y="2587"/>
                  <a:pt x="4453" y="2496"/>
                </a:cubicBezTo>
                <a:cubicBezTo>
                  <a:pt x="4490" y="2446"/>
                  <a:pt x="4537" y="2423"/>
                  <a:pt x="4594" y="2459"/>
                </a:cubicBezTo>
                <a:cubicBezTo>
                  <a:pt x="4646" y="2492"/>
                  <a:pt x="4682" y="2554"/>
                  <a:pt x="4700" y="2612"/>
                </a:cubicBezTo>
                <a:cubicBezTo>
                  <a:pt x="4728" y="2702"/>
                  <a:pt x="4710" y="2795"/>
                  <a:pt x="4626" y="2845"/>
                </a:cubicBezTo>
                <a:cubicBezTo>
                  <a:pt x="4576" y="2875"/>
                  <a:pt x="4460" y="2901"/>
                  <a:pt x="4402" y="2877"/>
                </a:cubicBezTo>
                <a:cubicBezTo>
                  <a:pt x="4364" y="2861"/>
                  <a:pt x="4381" y="2842"/>
                  <a:pt x="4382" y="2817"/>
                </a:cubicBezTo>
              </a:path>
              <a:path w="6328" h="1356">
                <a:moveTo>
                  <a:pt x="5496" y="2296"/>
                </a:moveTo>
                <a:cubicBezTo>
                  <a:pt x="5466" y="2322"/>
                  <a:pt x="5425" y="2335"/>
                  <a:pt x="5388" y="2356"/>
                </a:cubicBezTo>
                <a:cubicBezTo>
                  <a:pt x="5298" y="2406"/>
                  <a:pt x="5209" y="2470"/>
                  <a:pt x="5138" y="2545"/>
                </a:cubicBezTo>
                <a:cubicBezTo>
                  <a:pt x="5112" y="2573"/>
                  <a:pt x="5073" y="2621"/>
                  <a:pt x="5101" y="2660"/>
                </a:cubicBezTo>
                <a:cubicBezTo>
                  <a:pt x="5122" y="2690"/>
                  <a:pt x="5175" y="2695"/>
                  <a:pt x="5208" y="2699"/>
                </a:cubicBezTo>
                <a:cubicBezTo>
                  <a:pt x="5264" y="2706"/>
                  <a:pt x="5322" y="2704"/>
                  <a:pt x="5378" y="2715"/>
                </a:cubicBezTo>
                <a:cubicBezTo>
                  <a:pt x="5408" y="2721"/>
                  <a:pt x="5465" y="2736"/>
                  <a:pt x="5469" y="2776"/>
                </a:cubicBezTo>
                <a:cubicBezTo>
                  <a:pt x="5474" y="2826"/>
                  <a:pt x="5418" y="2875"/>
                  <a:pt x="5385" y="2903"/>
                </a:cubicBezTo>
                <a:cubicBezTo>
                  <a:pt x="5294" y="2979"/>
                  <a:pt x="5188" y="3036"/>
                  <a:pt x="5076" y="3071"/>
                </a:cubicBezTo>
                <a:cubicBezTo>
                  <a:pt x="5025" y="3087"/>
                  <a:pt x="5037" y="3081"/>
                  <a:pt x="5030" y="3039"/>
                </a:cubicBezTo>
              </a:path>
              <a:path w="6328" h="1356">
                <a:moveTo>
                  <a:pt x="5972" y="1809"/>
                </a:moveTo>
                <a:cubicBezTo>
                  <a:pt x="5937" y="1885"/>
                  <a:pt x="5937" y="1952"/>
                  <a:pt x="5933" y="2037"/>
                </a:cubicBezTo>
                <a:cubicBezTo>
                  <a:pt x="5925" y="2184"/>
                  <a:pt x="5922" y="2331"/>
                  <a:pt x="5921" y="2478"/>
                </a:cubicBezTo>
                <a:cubicBezTo>
                  <a:pt x="5920" y="2623"/>
                  <a:pt x="5904" y="2782"/>
                  <a:pt x="5924" y="2926"/>
                </a:cubicBezTo>
                <a:cubicBezTo>
                  <a:pt x="5929" y="2964"/>
                  <a:pt x="5932" y="2994"/>
                  <a:pt x="5933" y="3032"/>
                </a:cubicBezTo>
              </a:path>
              <a:path w="6328" h="1356">
                <a:moveTo>
                  <a:pt x="5683" y="2517"/>
                </a:moveTo>
                <a:cubicBezTo>
                  <a:pt x="5725" y="2504"/>
                  <a:pt x="5772" y="2498"/>
                  <a:pt x="5820" y="2496"/>
                </a:cubicBezTo>
                <a:cubicBezTo>
                  <a:pt x="5911" y="2492"/>
                  <a:pt x="6001" y="2494"/>
                  <a:pt x="6092" y="2489"/>
                </a:cubicBezTo>
                <a:cubicBezTo>
                  <a:pt x="6183" y="2484"/>
                  <a:pt x="6268" y="2466"/>
                  <a:pt x="6357" y="2450"/>
                </a:cubicBezTo>
                <a:cubicBezTo>
                  <a:pt x="6375" y="2448"/>
                  <a:pt x="6393" y="2445"/>
                  <a:pt x="6411" y="2443"/>
                </a:cubicBezTo>
              </a:path>
              <a:path w="6328" h="1356">
                <a:moveTo>
                  <a:pt x="6680" y="2392"/>
                </a:moveTo>
                <a:cubicBezTo>
                  <a:pt x="6669" y="2409"/>
                  <a:pt x="6648" y="2453"/>
                  <a:pt x="6620" y="2439"/>
                </a:cubicBezTo>
                <a:cubicBezTo>
                  <a:pt x="6580" y="2419"/>
                  <a:pt x="6579" y="2392"/>
                  <a:pt x="6531" y="2418"/>
                </a:cubicBezTo>
                <a:cubicBezTo>
                  <a:pt x="6477" y="2447"/>
                  <a:pt x="6430" y="2495"/>
                  <a:pt x="6387" y="2538"/>
                </a:cubicBezTo>
                <a:cubicBezTo>
                  <a:pt x="6339" y="2587"/>
                  <a:pt x="6299" y="2643"/>
                  <a:pt x="6276" y="2708"/>
                </a:cubicBezTo>
                <a:cubicBezTo>
                  <a:pt x="6264" y="2743"/>
                  <a:pt x="6259" y="2781"/>
                  <a:pt x="6298" y="2799"/>
                </a:cubicBezTo>
                <a:cubicBezTo>
                  <a:pt x="6336" y="2817"/>
                  <a:pt x="6384" y="2799"/>
                  <a:pt x="6418" y="2782"/>
                </a:cubicBezTo>
                <a:cubicBezTo>
                  <a:pt x="6477" y="2752"/>
                  <a:pt x="6516" y="2704"/>
                  <a:pt x="6549" y="2649"/>
                </a:cubicBezTo>
                <a:cubicBezTo>
                  <a:pt x="6582" y="2594"/>
                  <a:pt x="6604" y="2533"/>
                  <a:pt x="6620" y="2471"/>
                </a:cubicBezTo>
                <a:cubicBezTo>
                  <a:pt x="6627" y="2442"/>
                  <a:pt x="6629" y="2435"/>
                  <a:pt x="6630" y="2416"/>
                </a:cubicBezTo>
                <a:cubicBezTo>
                  <a:pt x="6605" y="2464"/>
                  <a:pt x="6603" y="2505"/>
                  <a:pt x="6595" y="2559"/>
                </a:cubicBezTo>
                <a:cubicBezTo>
                  <a:pt x="6588" y="2604"/>
                  <a:pt x="6573" y="2679"/>
                  <a:pt x="6598" y="2722"/>
                </a:cubicBezTo>
                <a:cubicBezTo>
                  <a:pt x="6618" y="2757"/>
                  <a:pt x="6627" y="2752"/>
                  <a:pt x="6660" y="2753"/>
                </a:cubicBezTo>
              </a:path>
              <a:path w="6328" h="1356">
                <a:moveTo>
                  <a:pt x="6951" y="2432"/>
                </a:moveTo>
                <a:cubicBezTo>
                  <a:pt x="6951" y="2471"/>
                  <a:pt x="6938" y="2498"/>
                  <a:pt x="6925" y="2536"/>
                </a:cubicBezTo>
                <a:cubicBezTo>
                  <a:pt x="6911" y="2578"/>
                  <a:pt x="6895" y="2620"/>
                  <a:pt x="6881" y="2662"/>
                </a:cubicBezTo>
                <a:cubicBezTo>
                  <a:pt x="6879" y="2668"/>
                  <a:pt x="6877" y="2673"/>
                  <a:pt x="6875" y="2679"/>
                </a:cubicBezTo>
                <a:cubicBezTo>
                  <a:pt x="6924" y="2633"/>
                  <a:pt x="6958" y="2577"/>
                  <a:pt x="6997" y="2522"/>
                </a:cubicBezTo>
                <a:cubicBezTo>
                  <a:pt x="7041" y="2461"/>
                  <a:pt x="7086" y="2398"/>
                  <a:pt x="7144" y="2349"/>
                </a:cubicBezTo>
                <a:cubicBezTo>
                  <a:pt x="7181" y="2318"/>
                  <a:pt x="7208" y="2322"/>
                  <a:pt x="7225" y="2367"/>
                </a:cubicBezTo>
                <a:cubicBezTo>
                  <a:pt x="7245" y="2421"/>
                  <a:pt x="7235" y="2488"/>
                  <a:pt x="7228" y="2543"/>
                </a:cubicBezTo>
                <a:cubicBezTo>
                  <a:pt x="7221" y="2603"/>
                  <a:pt x="7214" y="2678"/>
                  <a:pt x="7189" y="2734"/>
                </a:cubicBezTo>
                <a:cubicBezTo>
                  <a:pt x="7176" y="2757"/>
                  <a:pt x="7174" y="2763"/>
                  <a:pt x="7205" y="2741"/>
                </a:cubicBezTo>
              </a:path>
              <a:path w="6328" h="1356">
                <a:moveTo>
                  <a:pt x="7743" y="2263"/>
                </a:moveTo>
                <a:cubicBezTo>
                  <a:pt x="7774" y="2257"/>
                  <a:pt x="7803" y="2248"/>
                  <a:pt x="7826" y="2224"/>
                </a:cubicBezTo>
                <a:cubicBezTo>
                  <a:pt x="7848" y="2201"/>
                  <a:pt x="7853" y="2180"/>
                  <a:pt x="7855" y="2150"/>
                </a:cubicBezTo>
                <a:cubicBezTo>
                  <a:pt x="7810" y="2150"/>
                  <a:pt x="7790" y="2168"/>
                  <a:pt x="7757" y="2201"/>
                </a:cubicBezTo>
                <a:cubicBezTo>
                  <a:pt x="7686" y="2274"/>
                  <a:pt x="7625" y="2369"/>
                  <a:pt x="7593" y="2466"/>
                </a:cubicBezTo>
                <a:cubicBezTo>
                  <a:pt x="7570" y="2534"/>
                  <a:pt x="7555" y="2618"/>
                  <a:pt x="7593" y="2683"/>
                </a:cubicBezTo>
                <a:cubicBezTo>
                  <a:pt x="7627" y="2741"/>
                  <a:pt x="7696" y="2756"/>
                  <a:pt x="7757" y="2755"/>
                </a:cubicBezTo>
                <a:cubicBezTo>
                  <a:pt x="7840" y="2753"/>
                  <a:pt x="7899" y="2729"/>
                  <a:pt x="7971" y="2692"/>
                </a:cubicBezTo>
              </a:path>
              <a:path w="6328" h="1356">
                <a:moveTo>
                  <a:pt x="8183" y="2362"/>
                </a:moveTo>
                <a:cubicBezTo>
                  <a:pt x="8197" y="2383"/>
                  <a:pt x="8223" y="2377"/>
                  <a:pt x="8257" y="2367"/>
                </a:cubicBezTo>
                <a:cubicBezTo>
                  <a:pt x="8358" y="2336"/>
                  <a:pt x="8480" y="2221"/>
                  <a:pt x="8474" y="2106"/>
                </a:cubicBezTo>
                <a:cubicBezTo>
                  <a:pt x="8467" y="2084"/>
                  <a:pt x="8464" y="2077"/>
                  <a:pt x="8454" y="2065"/>
                </a:cubicBezTo>
                <a:cubicBezTo>
                  <a:pt x="8403" y="2059"/>
                  <a:pt x="8379" y="2078"/>
                  <a:pt x="8345" y="2118"/>
                </a:cubicBezTo>
                <a:cubicBezTo>
                  <a:pt x="8293" y="2180"/>
                  <a:pt x="8260" y="2257"/>
                  <a:pt x="8248" y="2337"/>
                </a:cubicBezTo>
                <a:cubicBezTo>
                  <a:pt x="8236" y="2413"/>
                  <a:pt x="8251" y="2491"/>
                  <a:pt x="8311" y="2542"/>
                </a:cubicBezTo>
                <a:cubicBezTo>
                  <a:pt x="8373" y="2595"/>
                  <a:pt x="8456" y="2594"/>
                  <a:pt x="8532" y="2577"/>
                </a:cubicBezTo>
                <a:cubicBezTo>
                  <a:pt x="8634" y="2554"/>
                  <a:pt x="8700" y="2493"/>
                  <a:pt x="8772" y="2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33680" y="534960"/>
            <a:ext cx="533520" cy="380880"/>
          </a:xfrm>
          <a:custGeom>
            <a:avLst/>
            <a:gdLst/>
            <a:ahLst/>
            <a:rect l="l" t="t" r="r" b="b"/>
            <a:pathLst>
              <a:path w="1482" h="1059">
                <a:moveTo>
                  <a:pt x="11020" y="1485"/>
                </a:moveTo>
                <a:cubicBezTo>
                  <a:pt x="10980" y="1515"/>
                  <a:pt x="10939" y="1546"/>
                  <a:pt x="10900" y="1578"/>
                </a:cubicBezTo>
                <a:cubicBezTo>
                  <a:pt x="10808" y="1653"/>
                  <a:pt x="10711" y="1719"/>
                  <a:pt x="10612" y="1785"/>
                </a:cubicBezTo>
                <a:cubicBezTo>
                  <a:pt x="10366" y="1949"/>
                  <a:pt x="10107" y="2094"/>
                  <a:pt x="9848" y="2238"/>
                </a:cubicBezTo>
                <a:cubicBezTo>
                  <a:pt x="9771" y="2281"/>
                  <a:pt x="9748" y="2307"/>
                  <a:pt x="9797" y="2215"/>
                </a:cubicBezTo>
              </a:path>
              <a:path w="1482" h="1059">
                <a:moveTo>
                  <a:pt x="10007" y="1748"/>
                </a:moveTo>
                <a:cubicBezTo>
                  <a:pt x="9959" y="1779"/>
                  <a:pt x="9938" y="1813"/>
                  <a:pt x="9905" y="1859"/>
                </a:cubicBezTo>
                <a:cubicBezTo>
                  <a:pt x="9848" y="1937"/>
                  <a:pt x="9789" y="2014"/>
                  <a:pt x="9732" y="2092"/>
                </a:cubicBezTo>
                <a:cubicBezTo>
                  <a:pt x="9669" y="2178"/>
                  <a:pt x="9553" y="2290"/>
                  <a:pt x="9539" y="2401"/>
                </a:cubicBezTo>
                <a:cubicBezTo>
                  <a:pt x="9532" y="2456"/>
                  <a:pt x="9586" y="2483"/>
                  <a:pt x="9628" y="2501"/>
                </a:cubicBezTo>
                <a:cubicBezTo>
                  <a:pt x="9705" y="2534"/>
                  <a:pt x="9793" y="2540"/>
                  <a:pt x="9876" y="2543"/>
                </a:cubicBezTo>
                <a:cubicBezTo>
                  <a:pt x="9984" y="2547"/>
                  <a:pt x="10084" y="2517"/>
                  <a:pt x="10185" y="2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24320" y="363600"/>
            <a:ext cx="2997360" cy="547560"/>
          </a:xfrm>
          <a:custGeom>
            <a:avLst/>
            <a:gdLst/>
            <a:ahLst/>
            <a:rect l="l" t="t" r="r" b="b"/>
            <a:pathLst>
              <a:path w="8325" h="1520">
                <a:moveTo>
                  <a:pt x="17713" y="2088"/>
                </a:moveTo>
                <a:cubicBezTo>
                  <a:pt x="17706" y="2166"/>
                  <a:pt x="17685" y="2241"/>
                  <a:pt x="17673" y="2319"/>
                </a:cubicBezTo>
                <a:cubicBezTo>
                  <a:pt x="17664" y="2381"/>
                  <a:pt x="17660" y="2444"/>
                  <a:pt x="17651" y="2506"/>
                </a:cubicBezTo>
                <a:cubicBezTo>
                  <a:pt x="17648" y="2528"/>
                  <a:pt x="17647" y="2537"/>
                  <a:pt x="17648" y="2510"/>
                </a:cubicBezTo>
                <a:cubicBezTo>
                  <a:pt x="17652" y="2448"/>
                  <a:pt x="17658" y="2387"/>
                  <a:pt x="17669" y="2326"/>
                </a:cubicBezTo>
                <a:cubicBezTo>
                  <a:pt x="17682" y="2255"/>
                  <a:pt x="17695" y="2158"/>
                  <a:pt x="17761" y="2116"/>
                </a:cubicBezTo>
                <a:cubicBezTo>
                  <a:pt x="17813" y="2083"/>
                  <a:pt x="17878" y="2125"/>
                  <a:pt x="17914" y="2161"/>
                </a:cubicBezTo>
                <a:cubicBezTo>
                  <a:pt x="17954" y="2201"/>
                  <a:pt x="17981" y="2251"/>
                  <a:pt x="17997" y="2305"/>
                </a:cubicBezTo>
                <a:cubicBezTo>
                  <a:pt x="18005" y="2331"/>
                  <a:pt x="18005" y="2356"/>
                  <a:pt x="18008" y="2383"/>
                </a:cubicBezTo>
                <a:cubicBezTo>
                  <a:pt x="18026" y="2327"/>
                  <a:pt x="18045" y="2276"/>
                  <a:pt x="18073" y="2224"/>
                </a:cubicBezTo>
                <a:cubicBezTo>
                  <a:pt x="18136" y="2110"/>
                  <a:pt x="18238" y="1964"/>
                  <a:pt x="18371" y="1926"/>
                </a:cubicBezTo>
                <a:cubicBezTo>
                  <a:pt x="18447" y="1904"/>
                  <a:pt x="18491" y="1949"/>
                  <a:pt x="18507" y="2018"/>
                </a:cubicBezTo>
                <a:cubicBezTo>
                  <a:pt x="18528" y="2110"/>
                  <a:pt x="18512" y="2219"/>
                  <a:pt x="18502" y="2312"/>
                </a:cubicBezTo>
                <a:cubicBezTo>
                  <a:pt x="18497" y="2365"/>
                  <a:pt x="18451" y="2528"/>
                  <a:pt x="18530" y="2515"/>
                </a:cubicBezTo>
                <a:cubicBezTo>
                  <a:pt x="18564" y="2502"/>
                  <a:pt x="18581" y="2491"/>
                  <a:pt x="18599" y="2466"/>
                </a:cubicBezTo>
              </a:path>
              <a:path w="8325" h="1520">
                <a:moveTo>
                  <a:pt x="19026" y="2009"/>
                </a:moveTo>
                <a:cubicBezTo>
                  <a:pt x="19018" y="2053"/>
                  <a:pt x="19017" y="2098"/>
                  <a:pt x="19017" y="2143"/>
                </a:cubicBezTo>
                <a:cubicBezTo>
                  <a:pt x="19017" y="2204"/>
                  <a:pt x="19015" y="2265"/>
                  <a:pt x="19017" y="2326"/>
                </a:cubicBezTo>
                <a:cubicBezTo>
                  <a:pt x="19018" y="2357"/>
                  <a:pt x="19017" y="2432"/>
                  <a:pt x="19072" y="2395"/>
                </a:cubicBezTo>
                <a:cubicBezTo>
                  <a:pt x="19074" y="2390"/>
                  <a:pt x="19077" y="2384"/>
                  <a:pt x="19079" y="2379"/>
                </a:cubicBezTo>
              </a:path>
              <a:path w="8325" h="1520">
                <a:moveTo>
                  <a:pt x="18997" y="1511"/>
                </a:moveTo>
                <a:cubicBezTo>
                  <a:pt x="18997" y="1505"/>
                  <a:pt x="18997" y="1498"/>
                  <a:pt x="18997" y="1492"/>
                </a:cubicBezTo>
                <a:cubicBezTo>
                  <a:pt x="19026" y="1523"/>
                  <a:pt x="19043" y="1537"/>
                  <a:pt x="19061" y="1573"/>
                </a:cubicBezTo>
              </a:path>
              <a:path w="8325" h="1520">
                <a:moveTo>
                  <a:pt x="19488" y="1877"/>
                </a:moveTo>
                <a:cubicBezTo>
                  <a:pt x="19517" y="1928"/>
                  <a:pt x="19558" y="1972"/>
                  <a:pt x="19597" y="2021"/>
                </a:cubicBezTo>
                <a:cubicBezTo>
                  <a:pt x="19652" y="2089"/>
                  <a:pt x="19710" y="2156"/>
                  <a:pt x="19770" y="2219"/>
                </a:cubicBezTo>
                <a:cubicBezTo>
                  <a:pt x="19815" y="2266"/>
                  <a:pt x="19863" y="2319"/>
                  <a:pt x="19917" y="2356"/>
                </a:cubicBezTo>
                <a:cubicBezTo>
                  <a:pt x="19950" y="2379"/>
                  <a:pt x="19960" y="2363"/>
                  <a:pt x="19973" y="2337"/>
                </a:cubicBezTo>
              </a:path>
              <a:path w="8325" h="1520">
                <a:moveTo>
                  <a:pt x="19897" y="1952"/>
                </a:moveTo>
                <a:cubicBezTo>
                  <a:pt x="19826" y="1993"/>
                  <a:pt x="19761" y="2041"/>
                  <a:pt x="19696" y="2090"/>
                </a:cubicBezTo>
                <a:cubicBezTo>
                  <a:pt x="19593" y="2168"/>
                  <a:pt x="19493" y="2250"/>
                  <a:pt x="19398" y="2337"/>
                </a:cubicBezTo>
                <a:cubicBezTo>
                  <a:pt x="19343" y="2387"/>
                  <a:pt x="19279" y="2444"/>
                  <a:pt x="19264" y="2512"/>
                </a:cubicBezTo>
              </a:path>
              <a:path w="8325" h="1520">
                <a:moveTo>
                  <a:pt x="20608" y="1030"/>
                </a:moveTo>
                <a:cubicBezTo>
                  <a:pt x="20634" y="1011"/>
                  <a:pt x="20641" y="1003"/>
                  <a:pt x="20658" y="1026"/>
                </a:cubicBezTo>
                <a:cubicBezTo>
                  <a:pt x="20659" y="1113"/>
                  <a:pt x="20644" y="1194"/>
                  <a:pt x="20629" y="1280"/>
                </a:cubicBezTo>
                <a:cubicBezTo>
                  <a:pt x="20599" y="1448"/>
                  <a:pt x="20559" y="1613"/>
                  <a:pt x="20516" y="1778"/>
                </a:cubicBezTo>
                <a:cubicBezTo>
                  <a:pt x="20473" y="1943"/>
                  <a:pt x="20429" y="2109"/>
                  <a:pt x="20379" y="2272"/>
                </a:cubicBezTo>
                <a:cubicBezTo>
                  <a:pt x="20366" y="2314"/>
                  <a:pt x="20356" y="2346"/>
                  <a:pt x="20335" y="2381"/>
                </a:cubicBezTo>
              </a:path>
              <a:path w="8325" h="1520">
                <a:moveTo>
                  <a:pt x="20139" y="1878"/>
                </a:moveTo>
                <a:cubicBezTo>
                  <a:pt x="20145" y="1901"/>
                  <a:pt x="20194" y="1904"/>
                  <a:pt x="20232" y="1906"/>
                </a:cubicBezTo>
                <a:cubicBezTo>
                  <a:pt x="20311" y="1910"/>
                  <a:pt x="20380" y="1896"/>
                  <a:pt x="20456" y="1889"/>
                </a:cubicBezTo>
                <a:cubicBezTo>
                  <a:pt x="20474" y="1889"/>
                  <a:pt x="20491" y="1889"/>
                  <a:pt x="20509" y="1889"/>
                </a:cubicBezTo>
              </a:path>
              <a:path w="8325" h="1520">
                <a:moveTo>
                  <a:pt x="20929" y="1878"/>
                </a:moveTo>
                <a:cubicBezTo>
                  <a:pt x="20909" y="1929"/>
                  <a:pt x="20893" y="1980"/>
                  <a:pt x="20875" y="2032"/>
                </a:cubicBezTo>
                <a:cubicBezTo>
                  <a:pt x="20860" y="2076"/>
                  <a:pt x="20836" y="2134"/>
                  <a:pt x="20843" y="2182"/>
                </a:cubicBezTo>
                <a:cubicBezTo>
                  <a:pt x="20850" y="2230"/>
                  <a:pt x="20898" y="2225"/>
                  <a:pt x="20933" y="2213"/>
                </a:cubicBezTo>
                <a:cubicBezTo>
                  <a:pt x="21005" y="2188"/>
                  <a:pt x="21067" y="2135"/>
                  <a:pt x="21123" y="2085"/>
                </a:cubicBezTo>
                <a:cubicBezTo>
                  <a:pt x="21177" y="2036"/>
                  <a:pt x="21227" y="1982"/>
                  <a:pt x="21270" y="1924"/>
                </a:cubicBezTo>
                <a:cubicBezTo>
                  <a:pt x="21275" y="1917"/>
                  <a:pt x="21279" y="1910"/>
                  <a:pt x="21284" y="1903"/>
                </a:cubicBezTo>
                <a:cubicBezTo>
                  <a:pt x="21247" y="1952"/>
                  <a:pt x="21219" y="2011"/>
                  <a:pt x="21206" y="2071"/>
                </a:cubicBezTo>
                <a:cubicBezTo>
                  <a:pt x="21196" y="2117"/>
                  <a:pt x="21195" y="2172"/>
                  <a:pt x="21220" y="2213"/>
                </a:cubicBezTo>
                <a:cubicBezTo>
                  <a:pt x="21242" y="2249"/>
                  <a:pt x="21280" y="2266"/>
                  <a:pt x="21321" y="2252"/>
                </a:cubicBezTo>
                <a:cubicBezTo>
                  <a:pt x="21335" y="2244"/>
                  <a:pt x="21349" y="2237"/>
                  <a:pt x="21363" y="2229"/>
                </a:cubicBezTo>
              </a:path>
              <a:path w="8325" h="1520">
                <a:moveTo>
                  <a:pt x="21737" y="1829"/>
                </a:moveTo>
                <a:cubicBezTo>
                  <a:pt x="21727" y="1880"/>
                  <a:pt x="21712" y="1924"/>
                  <a:pt x="21697" y="1975"/>
                </a:cubicBezTo>
                <a:cubicBezTo>
                  <a:pt x="21677" y="2041"/>
                  <a:pt x="21657" y="2109"/>
                  <a:pt x="21640" y="2175"/>
                </a:cubicBezTo>
                <a:cubicBezTo>
                  <a:pt x="21631" y="2209"/>
                  <a:pt x="21608" y="2257"/>
                  <a:pt x="21640" y="2266"/>
                </a:cubicBezTo>
                <a:cubicBezTo>
                  <a:pt x="21679" y="2218"/>
                  <a:pt x="21714" y="2168"/>
                  <a:pt x="21753" y="2120"/>
                </a:cubicBezTo>
                <a:cubicBezTo>
                  <a:pt x="21807" y="2054"/>
                  <a:pt x="21859" y="1985"/>
                  <a:pt x="21921" y="1926"/>
                </a:cubicBezTo>
                <a:cubicBezTo>
                  <a:pt x="21959" y="1889"/>
                  <a:pt x="22014" y="1841"/>
                  <a:pt x="22064" y="1820"/>
                </a:cubicBezTo>
                <a:cubicBezTo>
                  <a:pt x="22094" y="1814"/>
                  <a:pt x="22106" y="1811"/>
                  <a:pt x="22125" y="1801"/>
                </a:cubicBezTo>
              </a:path>
              <a:path w="8325" h="1520">
                <a:moveTo>
                  <a:pt x="22342" y="2011"/>
                </a:moveTo>
                <a:cubicBezTo>
                  <a:pt x="22354" y="2033"/>
                  <a:pt x="22381" y="2023"/>
                  <a:pt x="22415" y="2014"/>
                </a:cubicBezTo>
                <a:cubicBezTo>
                  <a:pt x="22468" y="2001"/>
                  <a:pt x="22514" y="1977"/>
                  <a:pt x="22558" y="1945"/>
                </a:cubicBezTo>
                <a:cubicBezTo>
                  <a:pt x="22607" y="1910"/>
                  <a:pt x="22646" y="1868"/>
                  <a:pt x="22671" y="1813"/>
                </a:cubicBezTo>
                <a:cubicBezTo>
                  <a:pt x="22686" y="1780"/>
                  <a:pt x="22682" y="1767"/>
                  <a:pt x="22676" y="1734"/>
                </a:cubicBezTo>
                <a:cubicBezTo>
                  <a:pt x="22624" y="1733"/>
                  <a:pt x="22597" y="1760"/>
                  <a:pt x="22563" y="1801"/>
                </a:cubicBezTo>
                <a:cubicBezTo>
                  <a:pt x="22508" y="1868"/>
                  <a:pt x="22468" y="1952"/>
                  <a:pt x="22457" y="2039"/>
                </a:cubicBezTo>
                <a:cubicBezTo>
                  <a:pt x="22448" y="2111"/>
                  <a:pt x="22468" y="2201"/>
                  <a:pt x="22538" y="2240"/>
                </a:cubicBezTo>
                <a:cubicBezTo>
                  <a:pt x="22613" y="2281"/>
                  <a:pt x="22710" y="2280"/>
                  <a:pt x="22789" y="2261"/>
                </a:cubicBezTo>
                <a:cubicBezTo>
                  <a:pt x="22804" y="2256"/>
                  <a:pt x="22820" y="2252"/>
                  <a:pt x="22835" y="2247"/>
                </a:cubicBezTo>
              </a:path>
              <a:path w="8325" h="1520">
                <a:moveTo>
                  <a:pt x="14571" y="1398"/>
                </a:moveTo>
                <a:cubicBezTo>
                  <a:pt x="14503" y="1411"/>
                  <a:pt x="14549" y="1396"/>
                  <a:pt x="14511" y="1427"/>
                </a:cubicBezTo>
                <a:cubicBezTo>
                  <a:pt x="14549" y="1457"/>
                  <a:pt x="14589" y="1492"/>
                  <a:pt x="14636" y="1510"/>
                </a:cubicBezTo>
                <a:cubicBezTo>
                  <a:pt x="14759" y="1557"/>
                  <a:pt x="14894" y="1587"/>
                  <a:pt x="15023" y="1612"/>
                </a:cubicBezTo>
                <a:cubicBezTo>
                  <a:pt x="15213" y="1649"/>
                  <a:pt x="15403" y="1681"/>
                  <a:pt x="15591" y="1725"/>
                </a:cubicBezTo>
                <a:cubicBezTo>
                  <a:pt x="15938" y="1805"/>
                  <a:pt x="16276" y="1968"/>
                  <a:pt x="16628" y="2019"/>
                </a:cubicBezTo>
                <a:cubicBezTo>
                  <a:pt x="16664" y="2024"/>
                  <a:pt x="16765" y="2048"/>
                  <a:pt x="16796" y="2016"/>
                </a:cubicBezTo>
                <a:cubicBezTo>
                  <a:pt x="16796" y="2003"/>
                  <a:pt x="16796" y="1990"/>
                  <a:pt x="16796" y="1977"/>
                </a:cubicBezTo>
              </a:path>
              <a:path w="8325" h="1520">
                <a:moveTo>
                  <a:pt x="16483" y="1661"/>
                </a:moveTo>
                <a:cubicBezTo>
                  <a:pt x="16527" y="1668"/>
                  <a:pt x="16559" y="1684"/>
                  <a:pt x="16605" y="1705"/>
                </a:cubicBezTo>
                <a:cubicBezTo>
                  <a:pt x="16681" y="1739"/>
                  <a:pt x="16755" y="1783"/>
                  <a:pt x="16826" y="1827"/>
                </a:cubicBezTo>
                <a:cubicBezTo>
                  <a:pt x="16892" y="1869"/>
                  <a:pt x="16964" y="1913"/>
                  <a:pt x="17020" y="1968"/>
                </a:cubicBezTo>
                <a:cubicBezTo>
                  <a:pt x="17047" y="1994"/>
                  <a:pt x="17082" y="2036"/>
                  <a:pt x="17052" y="2074"/>
                </a:cubicBezTo>
                <a:cubicBezTo>
                  <a:pt x="17003" y="2135"/>
                  <a:pt x="16908" y="2164"/>
                  <a:pt x="16840" y="2196"/>
                </a:cubicBezTo>
                <a:cubicBezTo>
                  <a:pt x="16738" y="2245"/>
                  <a:pt x="16635" y="2289"/>
                  <a:pt x="16535" y="2342"/>
                </a:cubicBezTo>
                <a:cubicBezTo>
                  <a:pt x="16492" y="2365"/>
                  <a:pt x="16450" y="2384"/>
                  <a:pt x="16406" y="2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00" y="1293840"/>
            <a:ext cx="4122720" cy="1768320"/>
          </a:xfrm>
          <a:custGeom>
            <a:avLst/>
            <a:gdLst/>
            <a:ahLst/>
            <a:rect l="l" t="t" r="r" b="b"/>
            <a:pathLst>
              <a:path w="11453" h="4915">
                <a:moveTo>
                  <a:pt x="6865" y="5471"/>
                </a:moveTo>
                <a:cubicBezTo>
                  <a:pt x="6859" y="5466"/>
                  <a:pt x="6786" y="5384"/>
                  <a:pt x="6773" y="5391"/>
                </a:cubicBezTo>
                <a:cubicBezTo>
                  <a:pt x="6771" y="5398"/>
                  <a:pt x="6768" y="5404"/>
                  <a:pt x="6766" y="5411"/>
                </a:cubicBezTo>
              </a:path>
              <a:path w="11453" h="4915">
                <a:moveTo>
                  <a:pt x="4917" y="3664"/>
                </a:moveTo>
                <a:cubicBezTo>
                  <a:pt x="4788" y="3899"/>
                  <a:pt x="4657" y="4134"/>
                  <a:pt x="4529" y="4370"/>
                </a:cubicBezTo>
                <a:cubicBezTo>
                  <a:pt x="4286" y="4819"/>
                  <a:pt x="4017" y="5250"/>
                  <a:pt x="3744" y="5682"/>
                </a:cubicBezTo>
                <a:cubicBezTo>
                  <a:pt x="3570" y="5958"/>
                  <a:pt x="3405" y="6240"/>
                  <a:pt x="3245" y="6524"/>
                </a:cubicBezTo>
                <a:cubicBezTo>
                  <a:pt x="3262" y="6490"/>
                  <a:pt x="3275" y="6464"/>
                  <a:pt x="3292" y="6430"/>
                </a:cubicBezTo>
              </a:path>
              <a:path w="11453" h="4915">
                <a:moveTo>
                  <a:pt x="5058" y="3593"/>
                </a:moveTo>
                <a:cubicBezTo>
                  <a:pt x="5058" y="3634"/>
                  <a:pt x="5046" y="3667"/>
                  <a:pt x="5056" y="3713"/>
                </a:cubicBezTo>
                <a:cubicBezTo>
                  <a:pt x="5068" y="3773"/>
                  <a:pt x="5092" y="3824"/>
                  <a:pt x="5123" y="3876"/>
                </a:cubicBezTo>
                <a:cubicBezTo>
                  <a:pt x="5176" y="3965"/>
                  <a:pt x="5238" y="4031"/>
                  <a:pt x="5314" y="4101"/>
                </a:cubicBezTo>
                <a:cubicBezTo>
                  <a:pt x="5426" y="4204"/>
                  <a:pt x="5548" y="4290"/>
                  <a:pt x="5672" y="4378"/>
                </a:cubicBezTo>
                <a:cubicBezTo>
                  <a:pt x="5876" y="4524"/>
                  <a:pt x="6074" y="4675"/>
                  <a:pt x="6265" y="4837"/>
                </a:cubicBezTo>
                <a:cubicBezTo>
                  <a:pt x="6602" y="5122"/>
                  <a:pt x="6876" y="5462"/>
                  <a:pt x="7198" y="5760"/>
                </a:cubicBezTo>
                <a:cubicBezTo>
                  <a:pt x="7299" y="5854"/>
                  <a:pt x="7412" y="5930"/>
                  <a:pt x="7544" y="5970"/>
                </a:cubicBezTo>
                <a:cubicBezTo>
                  <a:pt x="7561" y="5975"/>
                  <a:pt x="7566" y="5976"/>
                  <a:pt x="7578" y="5975"/>
                </a:cubicBezTo>
              </a:path>
              <a:path w="11453" h="4915">
                <a:moveTo>
                  <a:pt x="7768" y="5239"/>
                </a:moveTo>
                <a:cubicBezTo>
                  <a:pt x="7765" y="5303"/>
                  <a:pt x="7765" y="5368"/>
                  <a:pt x="7770" y="5432"/>
                </a:cubicBezTo>
                <a:cubicBezTo>
                  <a:pt x="7778" y="5537"/>
                  <a:pt x="7789" y="5643"/>
                  <a:pt x="7810" y="5746"/>
                </a:cubicBezTo>
                <a:cubicBezTo>
                  <a:pt x="7832" y="5852"/>
                  <a:pt x="7856" y="5959"/>
                  <a:pt x="7879" y="6065"/>
                </a:cubicBezTo>
                <a:cubicBezTo>
                  <a:pt x="7898" y="6153"/>
                  <a:pt x="7927" y="6245"/>
                  <a:pt x="7932" y="6335"/>
                </a:cubicBezTo>
                <a:cubicBezTo>
                  <a:pt x="7931" y="6340"/>
                  <a:pt x="7930" y="6346"/>
                  <a:pt x="7929" y="6351"/>
                </a:cubicBezTo>
                <a:cubicBezTo>
                  <a:pt x="7876" y="6349"/>
                  <a:pt x="7843" y="6342"/>
                  <a:pt x="7789" y="6326"/>
                </a:cubicBezTo>
                <a:cubicBezTo>
                  <a:pt x="7700" y="6299"/>
                  <a:pt x="7614" y="6287"/>
                  <a:pt x="7521" y="6286"/>
                </a:cubicBezTo>
                <a:cubicBezTo>
                  <a:pt x="7377" y="6284"/>
                  <a:pt x="7227" y="6318"/>
                  <a:pt x="7092" y="6367"/>
                </a:cubicBezTo>
                <a:cubicBezTo>
                  <a:pt x="7015" y="6395"/>
                  <a:pt x="6939" y="6427"/>
                  <a:pt x="6863" y="6457"/>
                </a:cubicBezTo>
              </a:path>
              <a:path w="11453" h="4915">
                <a:moveTo>
                  <a:pt x="2883" y="5912"/>
                </a:moveTo>
                <a:cubicBezTo>
                  <a:pt x="2879" y="6000"/>
                  <a:pt x="2880" y="6088"/>
                  <a:pt x="2881" y="6176"/>
                </a:cubicBezTo>
                <a:cubicBezTo>
                  <a:pt x="2882" y="6301"/>
                  <a:pt x="2893" y="6423"/>
                  <a:pt x="2909" y="6547"/>
                </a:cubicBezTo>
                <a:cubicBezTo>
                  <a:pt x="2922" y="6647"/>
                  <a:pt x="2933" y="6756"/>
                  <a:pt x="2982" y="6847"/>
                </a:cubicBezTo>
                <a:cubicBezTo>
                  <a:pt x="3022" y="6921"/>
                  <a:pt x="3089" y="6928"/>
                  <a:pt x="3163" y="6900"/>
                </a:cubicBezTo>
                <a:cubicBezTo>
                  <a:pt x="3286" y="6854"/>
                  <a:pt x="3387" y="6750"/>
                  <a:pt x="3481" y="6663"/>
                </a:cubicBezTo>
                <a:cubicBezTo>
                  <a:pt x="3578" y="6574"/>
                  <a:pt x="3668" y="6477"/>
                  <a:pt x="3765" y="6388"/>
                </a:cubicBezTo>
                <a:cubicBezTo>
                  <a:pt x="3802" y="6355"/>
                  <a:pt x="3813" y="6344"/>
                  <a:pt x="3839" y="6324"/>
                </a:cubicBezTo>
              </a:path>
              <a:path w="11453" h="4915">
                <a:moveTo>
                  <a:pt x="411" y="8313"/>
                </a:moveTo>
                <a:cubicBezTo>
                  <a:pt x="439" y="8336"/>
                  <a:pt x="479" y="8340"/>
                  <a:pt x="521" y="8336"/>
                </a:cubicBezTo>
                <a:cubicBezTo>
                  <a:pt x="613" y="8327"/>
                  <a:pt x="699" y="8281"/>
                  <a:pt x="773" y="8228"/>
                </a:cubicBezTo>
                <a:cubicBezTo>
                  <a:pt x="865" y="8162"/>
                  <a:pt x="942" y="8074"/>
                  <a:pt x="993" y="7972"/>
                </a:cubicBezTo>
                <a:cubicBezTo>
                  <a:pt x="1025" y="7907"/>
                  <a:pt x="1047" y="7823"/>
                  <a:pt x="1009" y="7754"/>
                </a:cubicBezTo>
                <a:cubicBezTo>
                  <a:pt x="977" y="7696"/>
                  <a:pt x="916" y="7701"/>
                  <a:pt x="868" y="7734"/>
                </a:cubicBezTo>
                <a:cubicBezTo>
                  <a:pt x="784" y="7792"/>
                  <a:pt x="732" y="7898"/>
                  <a:pt x="695" y="7990"/>
                </a:cubicBezTo>
                <a:cubicBezTo>
                  <a:pt x="646" y="8110"/>
                  <a:pt x="611" y="8260"/>
                  <a:pt x="641" y="8389"/>
                </a:cubicBezTo>
                <a:cubicBezTo>
                  <a:pt x="656" y="8452"/>
                  <a:pt x="696" y="8502"/>
                  <a:pt x="764" y="8507"/>
                </a:cubicBezTo>
                <a:cubicBezTo>
                  <a:pt x="843" y="8513"/>
                  <a:pt x="909" y="8449"/>
                  <a:pt x="965" y="8405"/>
                </a:cubicBezTo>
              </a:path>
              <a:path w="11453" h="4915">
                <a:moveTo>
                  <a:pt x="1540" y="7159"/>
                </a:moveTo>
                <a:cubicBezTo>
                  <a:pt x="1504" y="7226"/>
                  <a:pt x="1481" y="7300"/>
                  <a:pt x="1461" y="7374"/>
                </a:cubicBezTo>
                <a:cubicBezTo>
                  <a:pt x="1418" y="7529"/>
                  <a:pt x="1386" y="7685"/>
                  <a:pt x="1366" y="7844"/>
                </a:cubicBezTo>
                <a:cubicBezTo>
                  <a:pt x="1347" y="7997"/>
                  <a:pt x="1344" y="8147"/>
                  <a:pt x="1366" y="8299"/>
                </a:cubicBezTo>
                <a:cubicBezTo>
                  <a:pt x="1371" y="8337"/>
                  <a:pt x="1381" y="8470"/>
                  <a:pt x="1447" y="8473"/>
                </a:cubicBezTo>
                <a:cubicBezTo>
                  <a:pt x="1456" y="8469"/>
                  <a:pt x="1464" y="8465"/>
                  <a:pt x="1473" y="8461"/>
                </a:cubicBezTo>
              </a:path>
              <a:path w="11453" h="4915">
                <a:moveTo>
                  <a:pt x="1544" y="8158"/>
                </a:moveTo>
                <a:cubicBezTo>
                  <a:pt x="1608" y="8164"/>
                  <a:pt x="1663" y="8132"/>
                  <a:pt x="1722" y="8099"/>
                </a:cubicBezTo>
                <a:cubicBezTo>
                  <a:pt x="1808" y="8051"/>
                  <a:pt x="1892" y="7986"/>
                  <a:pt x="1928" y="7891"/>
                </a:cubicBezTo>
                <a:cubicBezTo>
                  <a:pt x="1942" y="7854"/>
                  <a:pt x="1942" y="7799"/>
                  <a:pt x="1891" y="7794"/>
                </a:cubicBezTo>
                <a:cubicBezTo>
                  <a:pt x="1832" y="7788"/>
                  <a:pt x="1785" y="7844"/>
                  <a:pt x="1756" y="7886"/>
                </a:cubicBezTo>
                <a:cubicBezTo>
                  <a:pt x="1706" y="7957"/>
                  <a:pt x="1676" y="8041"/>
                  <a:pt x="1671" y="8128"/>
                </a:cubicBezTo>
                <a:cubicBezTo>
                  <a:pt x="1668" y="8191"/>
                  <a:pt x="1682" y="8274"/>
                  <a:pt x="1736" y="8315"/>
                </a:cubicBezTo>
                <a:cubicBezTo>
                  <a:pt x="1787" y="8353"/>
                  <a:pt x="1848" y="8348"/>
                  <a:pt x="1902" y="8327"/>
                </a:cubicBezTo>
                <a:cubicBezTo>
                  <a:pt x="1913" y="8322"/>
                  <a:pt x="1924" y="8316"/>
                  <a:pt x="1935" y="8311"/>
                </a:cubicBezTo>
              </a:path>
              <a:path w="11453" h="4915">
                <a:moveTo>
                  <a:pt x="2156" y="7926"/>
                </a:moveTo>
                <a:cubicBezTo>
                  <a:pt x="2148" y="7978"/>
                  <a:pt x="2143" y="8031"/>
                  <a:pt x="2137" y="8084"/>
                </a:cubicBezTo>
                <a:cubicBezTo>
                  <a:pt x="2130" y="8146"/>
                  <a:pt x="2122" y="8207"/>
                  <a:pt x="2115" y="8269"/>
                </a:cubicBezTo>
                <a:cubicBezTo>
                  <a:pt x="2112" y="8298"/>
                  <a:pt x="2112" y="8305"/>
                  <a:pt x="2108" y="8323"/>
                </a:cubicBezTo>
                <a:cubicBezTo>
                  <a:pt x="2138" y="8272"/>
                  <a:pt x="2154" y="8213"/>
                  <a:pt x="2177" y="8158"/>
                </a:cubicBezTo>
                <a:cubicBezTo>
                  <a:pt x="2212" y="8074"/>
                  <a:pt x="2254" y="7991"/>
                  <a:pt x="2313" y="7921"/>
                </a:cubicBezTo>
                <a:cubicBezTo>
                  <a:pt x="2344" y="7884"/>
                  <a:pt x="2398" y="7844"/>
                  <a:pt x="2442" y="7889"/>
                </a:cubicBezTo>
                <a:cubicBezTo>
                  <a:pt x="2486" y="7934"/>
                  <a:pt x="2481" y="8018"/>
                  <a:pt x="2481" y="8075"/>
                </a:cubicBezTo>
                <a:cubicBezTo>
                  <a:pt x="2481" y="8133"/>
                  <a:pt x="2472" y="8188"/>
                  <a:pt x="2458" y="8244"/>
                </a:cubicBezTo>
                <a:cubicBezTo>
                  <a:pt x="2464" y="8182"/>
                  <a:pt x="2482" y="8122"/>
                  <a:pt x="2500" y="8062"/>
                </a:cubicBezTo>
                <a:cubicBezTo>
                  <a:pt x="2516" y="8010"/>
                  <a:pt x="2537" y="7893"/>
                  <a:pt x="2590" y="7863"/>
                </a:cubicBezTo>
                <a:cubicBezTo>
                  <a:pt x="2596" y="7862"/>
                  <a:pt x="2602" y="7862"/>
                  <a:pt x="2608" y="7861"/>
                </a:cubicBezTo>
                <a:cubicBezTo>
                  <a:pt x="2637" y="7904"/>
                  <a:pt x="2652" y="7947"/>
                  <a:pt x="2668" y="7997"/>
                </a:cubicBezTo>
                <a:cubicBezTo>
                  <a:pt x="2689" y="8063"/>
                  <a:pt x="2710" y="8177"/>
                  <a:pt x="2756" y="8230"/>
                </a:cubicBezTo>
                <a:cubicBezTo>
                  <a:pt x="2765" y="8235"/>
                  <a:pt x="2775" y="8239"/>
                  <a:pt x="2784" y="8244"/>
                </a:cubicBezTo>
              </a:path>
              <a:path w="11453" h="4915">
                <a:moveTo>
                  <a:pt x="2931" y="8036"/>
                </a:moveTo>
                <a:cubicBezTo>
                  <a:pt x="2972" y="8030"/>
                  <a:pt x="2994" y="8027"/>
                  <a:pt x="3029" y="8002"/>
                </a:cubicBezTo>
                <a:cubicBezTo>
                  <a:pt x="3085" y="7962"/>
                  <a:pt x="3126" y="7911"/>
                  <a:pt x="3151" y="7847"/>
                </a:cubicBezTo>
                <a:cubicBezTo>
                  <a:pt x="3167" y="7806"/>
                  <a:pt x="3165" y="7787"/>
                  <a:pt x="3140" y="7754"/>
                </a:cubicBezTo>
                <a:cubicBezTo>
                  <a:pt x="3090" y="7758"/>
                  <a:pt x="3068" y="7779"/>
                  <a:pt x="3036" y="7819"/>
                </a:cubicBezTo>
                <a:cubicBezTo>
                  <a:pt x="2983" y="7886"/>
                  <a:pt x="2947" y="7972"/>
                  <a:pt x="2925" y="8055"/>
                </a:cubicBezTo>
                <a:cubicBezTo>
                  <a:pt x="2910" y="8114"/>
                  <a:pt x="2890" y="8206"/>
                  <a:pt x="2918" y="8265"/>
                </a:cubicBezTo>
                <a:cubicBezTo>
                  <a:pt x="2942" y="8316"/>
                  <a:pt x="2996" y="8294"/>
                  <a:pt x="3033" y="8274"/>
                </a:cubicBezTo>
                <a:cubicBezTo>
                  <a:pt x="3080" y="8248"/>
                  <a:pt x="3106" y="8206"/>
                  <a:pt x="3137" y="8165"/>
                </a:cubicBezTo>
              </a:path>
              <a:path w="11453" h="4915">
                <a:moveTo>
                  <a:pt x="3319" y="7819"/>
                </a:moveTo>
                <a:cubicBezTo>
                  <a:pt x="3325" y="7864"/>
                  <a:pt x="3322" y="7915"/>
                  <a:pt x="3322" y="7962"/>
                </a:cubicBezTo>
                <a:cubicBezTo>
                  <a:pt x="3322" y="8009"/>
                  <a:pt x="3324" y="8055"/>
                  <a:pt x="3326" y="8101"/>
                </a:cubicBezTo>
                <a:cubicBezTo>
                  <a:pt x="3326" y="8108"/>
                  <a:pt x="3326" y="8114"/>
                  <a:pt x="3326" y="8121"/>
                </a:cubicBezTo>
                <a:cubicBezTo>
                  <a:pt x="3359" y="8079"/>
                  <a:pt x="3369" y="8023"/>
                  <a:pt x="3387" y="7971"/>
                </a:cubicBezTo>
                <a:cubicBezTo>
                  <a:pt x="3416" y="7888"/>
                  <a:pt x="3448" y="7801"/>
                  <a:pt x="3493" y="7725"/>
                </a:cubicBezTo>
                <a:cubicBezTo>
                  <a:pt x="3517" y="7683"/>
                  <a:pt x="3536" y="7668"/>
                  <a:pt x="3576" y="7646"/>
                </a:cubicBezTo>
                <a:cubicBezTo>
                  <a:pt x="3617" y="7675"/>
                  <a:pt x="3624" y="7707"/>
                  <a:pt x="3629" y="7759"/>
                </a:cubicBezTo>
                <a:cubicBezTo>
                  <a:pt x="3635" y="7828"/>
                  <a:pt x="3635" y="7899"/>
                  <a:pt x="3636" y="7969"/>
                </a:cubicBezTo>
                <a:cubicBezTo>
                  <a:pt x="3637" y="8004"/>
                  <a:pt x="3637" y="8026"/>
                  <a:pt x="3649" y="8057"/>
                </a:cubicBezTo>
                <a:cubicBezTo>
                  <a:pt x="3700" y="8017"/>
                  <a:pt x="3712" y="7972"/>
                  <a:pt x="3739" y="7912"/>
                </a:cubicBezTo>
              </a:path>
              <a:path w="11453" h="4915">
                <a:moveTo>
                  <a:pt x="4100" y="7108"/>
                </a:moveTo>
                <a:cubicBezTo>
                  <a:pt x="4130" y="7135"/>
                  <a:pt x="4122" y="7192"/>
                  <a:pt x="4120" y="7242"/>
                </a:cubicBezTo>
                <a:cubicBezTo>
                  <a:pt x="4116" y="7360"/>
                  <a:pt x="4111" y="7477"/>
                  <a:pt x="4107" y="7595"/>
                </a:cubicBezTo>
                <a:cubicBezTo>
                  <a:pt x="4103" y="7716"/>
                  <a:pt x="4094" y="7839"/>
                  <a:pt x="4091" y="7960"/>
                </a:cubicBezTo>
                <a:cubicBezTo>
                  <a:pt x="4090" y="8010"/>
                  <a:pt x="4092" y="8055"/>
                  <a:pt x="4086" y="8105"/>
                </a:cubicBezTo>
              </a:path>
              <a:path w="11453" h="4915">
                <a:moveTo>
                  <a:pt x="3829" y="7672"/>
                </a:moveTo>
                <a:cubicBezTo>
                  <a:pt x="3885" y="7679"/>
                  <a:pt x="3942" y="7691"/>
                  <a:pt x="3998" y="7694"/>
                </a:cubicBezTo>
                <a:cubicBezTo>
                  <a:pt x="4106" y="7700"/>
                  <a:pt x="4219" y="7703"/>
                  <a:pt x="4324" y="7676"/>
                </a:cubicBezTo>
                <a:cubicBezTo>
                  <a:pt x="4371" y="7661"/>
                  <a:pt x="4388" y="7655"/>
                  <a:pt x="4414" y="7632"/>
                </a:cubicBezTo>
              </a:path>
              <a:path w="11453" h="4915">
                <a:moveTo>
                  <a:pt x="7302" y="7353"/>
                </a:moveTo>
                <a:cubicBezTo>
                  <a:pt x="7298" y="7313"/>
                  <a:pt x="7296" y="7269"/>
                  <a:pt x="7278" y="7231"/>
                </a:cubicBezTo>
                <a:cubicBezTo>
                  <a:pt x="7260" y="7191"/>
                  <a:pt x="7228" y="7162"/>
                  <a:pt x="7181" y="7164"/>
                </a:cubicBezTo>
                <a:cubicBezTo>
                  <a:pt x="7086" y="7168"/>
                  <a:pt x="7010" y="7249"/>
                  <a:pt x="6958" y="7320"/>
                </a:cubicBezTo>
                <a:cubicBezTo>
                  <a:pt x="6901" y="7399"/>
                  <a:pt x="6869" y="7491"/>
                  <a:pt x="6865" y="7589"/>
                </a:cubicBezTo>
                <a:cubicBezTo>
                  <a:pt x="6862" y="7670"/>
                  <a:pt x="6885" y="7778"/>
                  <a:pt x="6946" y="7837"/>
                </a:cubicBezTo>
                <a:cubicBezTo>
                  <a:pt x="6999" y="7888"/>
                  <a:pt x="7039" y="7898"/>
                  <a:pt x="7105" y="7912"/>
                </a:cubicBezTo>
              </a:path>
              <a:path w="11453" h="4915">
                <a:moveTo>
                  <a:pt x="7685" y="7420"/>
                </a:moveTo>
                <a:cubicBezTo>
                  <a:pt x="7647" y="7475"/>
                  <a:pt x="7612" y="7526"/>
                  <a:pt x="7583" y="7586"/>
                </a:cubicBezTo>
                <a:cubicBezTo>
                  <a:pt x="7562" y="7631"/>
                  <a:pt x="7526" y="7713"/>
                  <a:pt x="7560" y="7761"/>
                </a:cubicBezTo>
                <a:cubicBezTo>
                  <a:pt x="7595" y="7810"/>
                  <a:pt x="7680" y="7767"/>
                  <a:pt x="7715" y="7745"/>
                </a:cubicBezTo>
                <a:cubicBezTo>
                  <a:pt x="7790" y="7697"/>
                  <a:pt x="7838" y="7627"/>
                  <a:pt x="7863" y="7542"/>
                </a:cubicBezTo>
                <a:cubicBezTo>
                  <a:pt x="7884" y="7471"/>
                  <a:pt x="7880" y="7392"/>
                  <a:pt x="7835" y="7332"/>
                </a:cubicBezTo>
                <a:cubicBezTo>
                  <a:pt x="7799" y="7283"/>
                  <a:pt x="7751" y="7271"/>
                  <a:pt x="7699" y="7300"/>
                </a:cubicBezTo>
                <a:cubicBezTo>
                  <a:pt x="7651" y="7327"/>
                  <a:pt x="7629" y="7381"/>
                  <a:pt x="7623" y="7431"/>
                </a:cubicBezTo>
                <a:cubicBezTo>
                  <a:pt x="7622" y="7444"/>
                  <a:pt x="7621" y="7457"/>
                  <a:pt x="7620" y="7470"/>
                </a:cubicBezTo>
              </a:path>
              <a:path w="11453" h="4915">
                <a:moveTo>
                  <a:pt x="8087" y="7491"/>
                </a:moveTo>
                <a:cubicBezTo>
                  <a:pt x="8100" y="7532"/>
                  <a:pt x="8101" y="7572"/>
                  <a:pt x="8105" y="7616"/>
                </a:cubicBezTo>
                <a:cubicBezTo>
                  <a:pt x="8107" y="7637"/>
                  <a:pt x="8107" y="7643"/>
                  <a:pt x="8110" y="7657"/>
                </a:cubicBezTo>
                <a:cubicBezTo>
                  <a:pt x="8131" y="7612"/>
                  <a:pt x="8148" y="7566"/>
                  <a:pt x="8169" y="7522"/>
                </a:cubicBezTo>
                <a:cubicBezTo>
                  <a:pt x="8204" y="7450"/>
                  <a:pt x="8244" y="7383"/>
                  <a:pt x="8296" y="7323"/>
                </a:cubicBezTo>
                <a:cubicBezTo>
                  <a:pt x="8330" y="7284"/>
                  <a:pt x="8379" y="7233"/>
                  <a:pt x="8437" y="7254"/>
                </a:cubicBezTo>
                <a:cubicBezTo>
                  <a:pt x="8489" y="7273"/>
                  <a:pt x="8503" y="7341"/>
                  <a:pt x="8507" y="7388"/>
                </a:cubicBezTo>
                <a:cubicBezTo>
                  <a:pt x="8513" y="7465"/>
                  <a:pt x="8498" y="7543"/>
                  <a:pt x="8481" y="7618"/>
                </a:cubicBezTo>
                <a:cubicBezTo>
                  <a:pt x="8479" y="7624"/>
                  <a:pt x="8478" y="7631"/>
                  <a:pt x="8476" y="7637"/>
                </a:cubicBezTo>
                <a:cubicBezTo>
                  <a:pt x="8527" y="7529"/>
                  <a:pt x="8587" y="7284"/>
                  <a:pt x="8694" y="7223"/>
                </a:cubicBezTo>
                <a:cubicBezTo>
                  <a:pt x="8699" y="7222"/>
                  <a:pt x="8705" y="7222"/>
                  <a:pt x="8710" y="7221"/>
                </a:cubicBezTo>
                <a:cubicBezTo>
                  <a:pt x="8733" y="7271"/>
                  <a:pt x="8741" y="7319"/>
                  <a:pt x="8758" y="7372"/>
                </a:cubicBezTo>
                <a:cubicBezTo>
                  <a:pt x="8772" y="7416"/>
                  <a:pt x="8790" y="7484"/>
                  <a:pt x="8835" y="7508"/>
                </a:cubicBezTo>
                <a:cubicBezTo>
                  <a:pt x="8882" y="7533"/>
                  <a:pt x="8939" y="7506"/>
                  <a:pt x="8977" y="7480"/>
                </a:cubicBezTo>
                <a:cubicBezTo>
                  <a:pt x="8985" y="7473"/>
                  <a:pt x="8993" y="7466"/>
                  <a:pt x="9001" y="7459"/>
                </a:cubicBezTo>
              </a:path>
              <a:path w="11453" h="4915">
                <a:moveTo>
                  <a:pt x="9199" y="7071"/>
                </a:moveTo>
                <a:cubicBezTo>
                  <a:pt x="9182" y="7115"/>
                  <a:pt x="9172" y="7162"/>
                  <a:pt x="9169" y="7212"/>
                </a:cubicBezTo>
                <a:cubicBezTo>
                  <a:pt x="9161" y="7326"/>
                  <a:pt x="9152" y="7441"/>
                  <a:pt x="9146" y="7556"/>
                </a:cubicBezTo>
                <a:cubicBezTo>
                  <a:pt x="9138" y="7702"/>
                  <a:pt x="9130" y="7849"/>
                  <a:pt x="9119" y="7995"/>
                </a:cubicBezTo>
                <a:cubicBezTo>
                  <a:pt x="9111" y="8104"/>
                  <a:pt x="9099" y="8213"/>
                  <a:pt x="9097" y="8322"/>
                </a:cubicBezTo>
                <a:cubicBezTo>
                  <a:pt x="9108" y="8247"/>
                  <a:pt x="9112" y="8169"/>
                  <a:pt x="9121" y="8092"/>
                </a:cubicBezTo>
                <a:cubicBezTo>
                  <a:pt x="9141" y="7915"/>
                  <a:pt x="9162" y="7735"/>
                  <a:pt x="9201" y="7561"/>
                </a:cubicBezTo>
                <a:cubicBezTo>
                  <a:pt x="9235" y="7408"/>
                  <a:pt x="9278" y="7248"/>
                  <a:pt x="9374" y="7122"/>
                </a:cubicBezTo>
                <a:cubicBezTo>
                  <a:pt x="9417" y="7065"/>
                  <a:pt x="9496" y="7005"/>
                  <a:pt x="9569" y="7050"/>
                </a:cubicBezTo>
                <a:cubicBezTo>
                  <a:pt x="9634" y="7090"/>
                  <a:pt x="9627" y="7175"/>
                  <a:pt x="9601" y="7235"/>
                </a:cubicBezTo>
                <a:cubicBezTo>
                  <a:pt x="9555" y="7342"/>
                  <a:pt x="9458" y="7421"/>
                  <a:pt x="9363" y="7482"/>
                </a:cubicBezTo>
                <a:cubicBezTo>
                  <a:pt x="9281" y="7535"/>
                  <a:pt x="9163" y="7600"/>
                  <a:pt x="9061" y="7598"/>
                </a:cubicBezTo>
                <a:cubicBezTo>
                  <a:pt x="8983" y="7597"/>
                  <a:pt x="9005" y="7529"/>
                  <a:pt x="9028" y="7489"/>
                </a:cubicBezTo>
                <a:cubicBezTo>
                  <a:pt x="9039" y="7475"/>
                  <a:pt x="9050" y="7462"/>
                  <a:pt x="9061" y="7448"/>
                </a:cubicBezTo>
              </a:path>
              <a:path w="11453" h="4915">
                <a:moveTo>
                  <a:pt x="9797" y="7023"/>
                </a:moveTo>
                <a:cubicBezTo>
                  <a:pt x="9829" y="7050"/>
                  <a:pt x="9828" y="7066"/>
                  <a:pt x="9820" y="7113"/>
                </a:cubicBezTo>
                <a:cubicBezTo>
                  <a:pt x="9810" y="7175"/>
                  <a:pt x="9802" y="7237"/>
                  <a:pt x="9800" y="7300"/>
                </a:cubicBezTo>
                <a:cubicBezTo>
                  <a:pt x="9798" y="7352"/>
                  <a:pt x="9800" y="7415"/>
                  <a:pt x="9829" y="7461"/>
                </a:cubicBezTo>
                <a:cubicBezTo>
                  <a:pt x="9854" y="7500"/>
                  <a:pt x="9892" y="7505"/>
                  <a:pt x="9931" y="7484"/>
                </a:cubicBezTo>
                <a:cubicBezTo>
                  <a:pt x="9983" y="7456"/>
                  <a:pt x="10009" y="7391"/>
                  <a:pt x="10016" y="7335"/>
                </a:cubicBezTo>
                <a:cubicBezTo>
                  <a:pt x="10025" y="7265"/>
                  <a:pt x="10009" y="7187"/>
                  <a:pt x="9970" y="7129"/>
                </a:cubicBezTo>
                <a:cubicBezTo>
                  <a:pt x="9940" y="7084"/>
                  <a:pt x="9891" y="7054"/>
                  <a:pt x="9838" y="7078"/>
                </a:cubicBezTo>
                <a:cubicBezTo>
                  <a:pt x="9790" y="7099"/>
                  <a:pt x="9741" y="7174"/>
                  <a:pt x="9742" y="7228"/>
                </a:cubicBezTo>
                <a:cubicBezTo>
                  <a:pt x="9752" y="7246"/>
                  <a:pt x="9755" y="7253"/>
                  <a:pt x="9758" y="7267"/>
                </a:cubicBezTo>
              </a:path>
              <a:path w="11453" h="4915">
                <a:moveTo>
                  <a:pt x="10229" y="7087"/>
                </a:moveTo>
                <a:cubicBezTo>
                  <a:pt x="10224" y="7130"/>
                  <a:pt x="10220" y="7175"/>
                  <a:pt x="10217" y="7219"/>
                </a:cubicBezTo>
                <a:cubicBezTo>
                  <a:pt x="10212" y="7280"/>
                  <a:pt x="10204" y="7340"/>
                  <a:pt x="10203" y="7402"/>
                </a:cubicBezTo>
                <a:cubicBezTo>
                  <a:pt x="10203" y="7435"/>
                  <a:pt x="10204" y="7461"/>
                  <a:pt x="10212" y="7492"/>
                </a:cubicBezTo>
                <a:cubicBezTo>
                  <a:pt x="10257" y="7504"/>
                  <a:pt x="10272" y="7483"/>
                  <a:pt x="10303" y="7445"/>
                </a:cubicBezTo>
                <a:cubicBezTo>
                  <a:pt x="10360" y="7375"/>
                  <a:pt x="10407" y="7292"/>
                  <a:pt x="10451" y="7214"/>
                </a:cubicBezTo>
                <a:cubicBezTo>
                  <a:pt x="10468" y="7184"/>
                  <a:pt x="10485" y="7154"/>
                  <a:pt x="10503" y="7124"/>
                </a:cubicBezTo>
                <a:cubicBezTo>
                  <a:pt x="10510" y="7169"/>
                  <a:pt x="10500" y="7208"/>
                  <a:pt x="10492" y="7254"/>
                </a:cubicBezTo>
                <a:cubicBezTo>
                  <a:pt x="10482" y="7311"/>
                  <a:pt x="10479" y="7363"/>
                  <a:pt x="10480" y="7420"/>
                </a:cubicBezTo>
                <a:cubicBezTo>
                  <a:pt x="10481" y="7470"/>
                  <a:pt x="10496" y="7492"/>
                  <a:pt x="10550" y="7485"/>
                </a:cubicBezTo>
                <a:cubicBezTo>
                  <a:pt x="10555" y="7482"/>
                  <a:pt x="10561" y="7480"/>
                  <a:pt x="10566" y="7477"/>
                </a:cubicBezTo>
              </a:path>
              <a:path w="11453" h="4915">
                <a:moveTo>
                  <a:pt x="10829" y="7071"/>
                </a:moveTo>
                <a:cubicBezTo>
                  <a:pt x="10821" y="7117"/>
                  <a:pt x="10815" y="7159"/>
                  <a:pt x="10804" y="7205"/>
                </a:cubicBezTo>
                <a:cubicBezTo>
                  <a:pt x="10792" y="7256"/>
                  <a:pt x="10777" y="7305"/>
                  <a:pt x="10762" y="7355"/>
                </a:cubicBezTo>
                <a:cubicBezTo>
                  <a:pt x="10757" y="7378"/>
                  <a:pt x="10756" y="7385"/>
                  <a:pt x="10750" y="7399"/>
                </a:cubicBezTo>
                <a:cubicBezTo>
                  <a:pt x="10779" y="7351"/>
                  <a:pt x="10799" y="7299"/>
                  <a:pt x="10824" y="7249"/>
                </a:cubicBezTo>
                <a:cubicBezTo>
                  <a:pt x="10860" y="7176"/>
                  <a:pt x="10897" y="7103"/>
                  <a:pt x="10944" y="7037"/>
                </a:cubicBezTo>
                <a:cubicBezTo>
                  <a:pt x="10968" y="7003"/>
                  <a:pt x="10974" y="6994"/>
                  <a:pt x="11009" y="6991"/>
                </a:cubicBezTo>
                <a:cubicBezTo>
                  <a:pt x="11029" y="7039"/>
                  <a:pt x="11026" y="7084"/>
                  <a:pt x="11028" y="7136"/>
                </a:cubicBezTo>
                <a:cubicBezTo>
                  <a:pt x="11030" y="7195"/>
                  <a:pt x="11032" y="7251"/>
                  <a:pt x="11041" y="7309"/>
                </a:cubicBezTo>
                <a:cubicBezTo>
                  <a:pt x="11049" y="7360"/>
                  <a:pt x="11082" y="7357"/>
                  <a:pt x="11118" y="7321"/>
                </a:cubicBezTo>
                <a:cubicBezTo>
                  <a:pt x="11124" y="7312"/>
                  <a:pt x="11130" y="7302"/>
                  <a:pt x="11136" y="7293"/>
                </a:cubicBezTo>
              </a:path>
              <a:path w="11453" h="4915">
                <a:moveTo>
                  <a:pt x="11688" y="6120"/>
                </a:moveTo>
                <a:cubicBezTo>
                  <a:pt x="11717" y="6187"/>
                  <a:pt x="11723" y="6230"/>
                  <a:pt x="11731" y="6305"/>
                </a:cubicBezTo>
                <a:cubicBezTo>
                  <a:pt x="11744" y="6436"/>
                  <a:pt x="11744" y="6567"/>
                  <a:pt x="11750" y="6698"/>
                </a:cubicBezTo>
                <a:cubicBezTo>
                  <a:pt x="11756" y="6828"/>
                  <a:pt x="11763" y="6958"/>
                  <a:pt x="11775" y="7088"/>
                </a:cubicBezTo>
                <a:cubicBezTo>
                  <a:pt x="11780" y="7140"/>
                  <a:pt x="11784" y="7191"/>
                  <a:pt x="11792" y="7242"/>
                </a:cubicBezTo>
                <a:cubicBezTo>
                  <a:pt x="11789" y="7195"/>
                  <a:pt x="11783" y="7189"/>
                  <a:pt x="11768" y="7145"/>
                </a:cubicBezTo>
                <a:cubicBezTo>
                  <a:pt x="11742" y="7071"/>
                  <a:pt x="11709" y="7004"/>
                  <a:pt x="11646" y="6954"/>
                </a:cubicBezTo>
                <a:cubicBezTo>
                  <a:pt x="11594" y="6912"/>
                  <a:pt x="11534" y="6903"/>
                  <a:pt x="11482" y="6951"/>
                </a:cubicBezTo>
                <a:cubicBezTo>
                  <a:pt x="11427" y="7001"/>
                  <a:pt x="11401" y="7076"/>
                  <a:pt x="11395" y="7148"/>
                </a:cubicBezTo>
                <a:cubicBezTo>
                  <a:pt x="11389" y="7213"/>
                  <a:pt x="11404" y="7286"/>
                  <a:pt x="11464" y="7323"/>
                </a:cubicBezTo>
                <a:cubicBezTo>
                  <a:pt x="11533" y="7366"/>
                  <a:pt x="11623" y="7330"/>
                  <a:pt x="11688" y="7298"/>
                </a:cubicBezTo>
                <a:cubicBezTo>
                  <a:pt x="11763" y="7260"/>
                  <a:pt x="11809" y="7201"/>
                  <a:pt x="11863" y="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26080" y="1141560"/>
            <a:ext cx="3011400" cy="2442960"/>
          </a:xfrm>
          <a:custGeom>
            <a:avLst/>
            <a:gdLst/>
            <a:ahLst/>
            <a:rect l="l" t="t" r="r" b="b"/>
            <a:pathLst>
              <a:path w="8367" h="6788">
                <a:moveTo>
                  <a:pt x="20241" y="3170"/>
                </a:moveTo>
                <a:cubicBezTo>
                  <a:pt x="20151" y="3274"/>
                  <a:pt x="20080" y="3387"/>
                  <a:pt x="20005" y="3503"/>
                </a:cubicBezTo>
                <a:cubicBezTo>
                  <a:pt x="19579" y="4157"/>
                  <a:pt x="19082" y="4744"/>
                  <a:pt x="18613" y="5363"/>
                </a:cubicBezTo>
                <a:cubicBezTo>
                  <a:pt x="18591" y="5392"/>
                  <a:pt x="18603" y="5383"/>
                  <a:pt x="18588" y="5416"/>
                </a:cubicBezTo>
              </a:path>
              <a:path w="8367" h="6788">
                <a:moveTo>
                  <a:pt x="18322" y="5033"/>
                </a:moveTo>
                <a:cubicBezTo>
                  <a:pt x="18306" y="5058"/>
                  <a:pt x="18303" y="5076"/>
                  <a:pt x="18294" y="5126"/>
                </a:cubicBezTo>
                <a:cubicBezTo>
                  <a:pt x="18278" y="5220"/>
                  <a:pt x="18269" y="5315"/>
                  <a:pt x="18255" y="5409"/>
                </a:cubicBezTo>
                <a:cubicBezTo>
                  <a:pt x="18239" y="5518"/>
                  <a:pt x="18229" y="5627"/>
                  <a:pt x="18219" y="5737"/>
                </a:cubicBezTo>
                <a:cubicBezTo>
                  <a:pt x="18213" y="5796"/>
                  <a:pt x="18208" y="5855"/>
                  <a:pt x="18207" y="5915"/>
                </a:cubicBezTo>
                <a:cubicBezTo>
                  <a:pt x="18207" y="5922"/>
                  <a:pt x="18207" y="5928"/>
                  <a:pt x="18207" y="5935"/>
                </a:cubicBezTo>
                <a:cubicBezTo>
                  <a:pt x="18235" y="5896"/>
                  <a:pt x="18259" y="5856"/>
                  <a:pt x="18299" y="5827"/>
                </a:cubicBezTo>
                <a:cubicBezTo>
                  <a:pt x="18464" y="5707"/>
                  <a:pt x="18662" y="5626"/>
                  <a:pt x="18839" y="5525"/>
                </a:cubicBezTo>
                <a:cubicBezTo>
                  <a:pt x="18913" y="5483"/>
                  <a:pt x="18977" y="5441"/>
                  <a:pt x="19042" y="5389"/>
                </a:cubicBezTo>
              </a:path>
              <a:path w="8367" h="6788">
                <a:moveTo>
                  <a:pt x="20605" y="3182"/>
                </a:moveTo>
                <a:cubicBezTo>
                  <a:pt x="20639" y="3206"/>
                  <a:pt x="20669" y="3228"/>
                  <a:pt x="20702" y="3256"/>
                </a:cubicBezTo>
                <a:cubicBezTo>
                  <a:pt x="20770" y="3313"/>
                  <a:pt x="20840" y="3369"/>
                  <a:pt x="20913" y="3420"/>
                </a:cubicBezTo>
                <a:cubicBezTo>
                  <a:pt x="21037" y="3507"/>
                  <a:pt x="21167" y="3587"/>
                  <a:pt x="21296" y="3667"/>
                </a:cubicBezTo>
                <a:cubicBezTo>
                  <a:pt x="21988" y="4099"/>
                  <a:pt x="22634" y="4610"/>
                  <a:pt x="23278" y="5109"/>
                </a:cubicBezTo>
                <a:cubicBezTo>
                  <a:pt x="23371" y="5181"/>
                  <a:pt x="23466" y="5254"/>
                  <a:pt x="23560" y="5321"/>
                </a:cubicBezTo>
              </a:path>
              <a:path w="8367" h="6788">
                <a:moveTo>
                  <a:pt x="23701" y="4744"/>
                </a:moveTo>
                <a:cubicBezTo>
                  <a:pt x="23716" y="4781"/>
                  <a:pt x="23727" y="4820"/>
                  <a:pt x="23743" y="4860"/>
                </a:cubicBezTo>
                <a:cubicBezTo>
                  <a:pt x="23773" y="4935"/>
                  <a:pt x="23805" y="5011"/>
                  <a:pt x="23839" y="5084"/>
                </a:cubicBezTo>
                <a:cubicBezTo>
                  <a:pt x="23892" y="5199"/>
                  <a:pt x="23947" y="5309"/>
                  <a:pt x="23976" y="5433"/>
                </a:cubicBezTo>
                <a:cubicBezTo>
                  <a:pt x="23985" y="5472"/>
                  <a:pt x="23993" y="5510"/>
                  <a:pt x="23994" y="5550"/>
                </a:cubicBezTo>
                <a:cubicBezTo>
                  <a:pt x="23993" y="5556"/>
                  <a:pt x="23993" y="5563"/>
                  <a:pt x="23992" y="5569"/>
                </a:cubicBezTo>
                <a:cubicBezTo>
                  <a:pt x="23876" y="5547"/>
                  <a:pt x="23762" y="5568"/>
                  <a:pt x="23646" y="5590"/>
                </a:cubicBezTo>
                <a:cubicBezTo>
                  <a:pt x="23533" y="5612"/>
                  <a:pt x="23421" y="5636"/>
                  <a:pt x="23308" y="5659"/>
                </a:cubicBezTo>
                <a:cubicBezTo>
                  <a:pt x="23240" y="5673"/>
                  <a:pt x="23146" y="5701"/>
                  <a:pt x="23075" y="5688"/>
                </a:cubicBezTo>
                <a:cubicBezTo>
                  <a:pt x="23067" y="5684"/>
                  <a:pt x="23058" y="5679"/>
                  <a:pt x="23050" y="5675"/>
                </a:cubicBezTo>
              </a:path>
              <a:path w="8367" h="6788">
                <a:moveTo>
                  <a:pt x="15850" y="5816"/>
                </a:moveTo>
                <a:cubicBezTo>
                  <a:pt x="15830" y="5870"/>
                  <a:pt x="15812" y="5925"/>
                  <a:pt x="15799" y="5984"/>
                </a:cubicBezTo>
                <a:cubicBezTo>
                  <a:pt x="15768" y="6128"/>
                  <a:pt x="15738" y="6273"/>
                  <a:pt x="15716" y="6418"/>
                </a:cubicBezTo>
                <a:cubicBezTo>
                  <a:pt x="15691" y="6589"/>
                  <a:pt x="15671" y="6761"/>
                  <a:pt x="15654" y="6933"/>
                </a:cubicBezTo>
                <a:cubicBezTo>
                  <a:pt x="15644" y="7039"/>
                  <a:pt x="15639" y="7145"/>
                  <a:pt x="15633" y="7251"/>
                </a:cubicBezTo>
                <a:cubicBezTo>
                  <a:pt x="15630" y="7283"/>
                  <a:pt x="15630" y="7291"/>
                  <a:pt x="15628" y="7311"/>
                </a:cubicBezTo>
                <a:cubicBezTo>
                  <a:pt x="15648" y="7226"/>
                  <a:pt x="15659" y="7139"/>
                  <a:pt x="15677" y="7053"/>
                </a:cubicBezTo>
                <a:cubicBezTo>
                  <a:pt x="15706" y="6914"/>
                  <a:pt x="15730" y="6705"/>
                  <a:pt x="15829" y="6594"/>
                </a:cubicBezTo>
                <a:cubicBezTo>
                  <a:pt x="15856" y="6576"/>
                  <a:pt x="15864" y="6569"/>
                  <a:pt x="15887" y="6573"/>
                </a:cubicBezTo>
                <a:cubicBezTo>
                  <a:pt x="15946" y="6611"/>
                  <a:pt x="15972" y="6656"/>
                  <a:pt x="15998" y="6723"/>
                </a:cubicBezTo>
                <a:cubicBezTo>
                  <a:pt x="16035" y="6818"/>
                  <a:pt x="16057" y="6918"/>
                  <a:pt x="16074" y="7018"/>
                </a:cubicBezTo>
                <a:cubicBezTo>
                  <a:pt x="16085" y="7080"/>
                  <a:pt x="16081" y="7171"/>
                  <a:pt x="16111" y="7228"/>
                </a:cubicBezTo>
                <a:cubicBezTo>
                  <a:pt x="16137" y="7277"/>
                  <a:pt x="16116" y="7256"/>
                  <a:pt x="16164" y="7238"/>
                </a:cubicBezTo>
              </a:path>
              <a:path w="8367" h="6788">
                <a:moveTo>
                  <a:pt x="16466" y="6746"/>
                </a:moveTo>
                <a:cubicBezTo>
                  <a:pt x="16451" y="6796"/>
                  <a:pt x="16428" y="6839"/>
                  <a:pt x="16418" y="6891"/>
                </a:cubicBezTo>
                <a:cubicBezTo>
                  <a:pt x="16404" y="6964"/>
                  <a:pt x="16400" y="7045"/>
                  <a:pt x="16416" y="7118"/>
                </a:cubicBezTo>
                <a:cubicBezTo>
                  <a:pt x="16427" y="7168"/>
                  <a:pt x="16457" y="7216"/>
                  <a:pt x="16513" y="7219"/>
                </a:cubicBezTo>
                <a:cubicBezTo>
                  <a:pt x="16567" y="7222"/>
                  <a:pt x="16613" y="7172"/>
                  <a:pt x="16637" y="7129"/>
                </a:cubicBezTo>
                <a:cubicBezTo>
                  <a:pt x="16671" y="7068"/>
                  <a:pt x="16678" y="6992"/>
                  <a:pt x="16667" y="6924"/>
                </a:cubicBezTo>
                <a:cubicBezTo>
                  <a:pt x="16659" y="6874"/>
                  <a:pt x="16635" y="6822"/>
                  <a:pt x="16579" y="6815"/>
                </a:cubicBezTo>
                <a:cubicBezTo>
                  <a:pt x="16540" y="6810"/>
                  <a:pt x="16501" y="6847"/>
                  <a:pt x="16485" y="6878"/>
                </a:cubicBezTo>
                <a:cubicBezTo>
                  <a:pt x="16480" y="6889"/>
                  <a:pt x="16476" y="6899"/>
                  <a:pt x="16471" y="6910"/>
                </a:cubicBezTo>
              </a:path>
              <a:path w="8367" h="6788">
                <a:moveTo>
                  <a:pt x="16969" y="6766"/>
                </a:moveTo>
                <a:cubicBezTo>
                  <a:pt x="16957" y="6837"/>
                  <a:pt x="16931" y="6904"/>
                  <a:pt x="16912" y="6974"/>
                </a:cubicBezTo>
                <a:cubicBezTo>
                  <a:pt x="16896" y="7033"/>
                  <a:pt x="16877" y="7098"/>
                  <a:pt x="16880" y="7159"/>
                </a:cubicBezTo>
                <a:cubicBezTo>
                  <a:pt x="16881" y="7167"/>
                  <a:pt x="16883" y="7174"/>
                  <a:pt x="16884" y="7182"/>
                </a:cubicBezTo>
                <a:cubicBezTo>
                  <a:pt x="16934" y="7160"/>
                  <a:pt x="16946" y="7115"/>
                  <a:pt x="16970" y="7065"/>
                </a:cubicBezTo>
                <a:cubicBezTo>
                  <a:pt x="17011" y="6979"/>
                  <a:pt x="17044" y="6890"/>
                  <a:pt x="17083" y="6803"/>
                </a:cubicBezTo>
                <a:cubicBezTo>
                  <a:pt x="17108" y="6748"/>
                  <a:pt x="17126" y="6699"/>
                  <a:pt x="17171" y="6660"/>
                </a:cubicBezTo>
                <a:cubicBezTo>
                  <a:pt x="17206" y="6708"/>
                  <a:pt x="17213" y="6749"/>
                  <a:pt x="17217" y="6810"/>
                </a:cubicBezTo>
                <a:cubicBezTo>
                  <a:pt x="17221" y="6872"/>
                  <a:pt x="17219" y="6932"/>
                  <a:pt x="17217" y="6993"/>
                </a:cubicBezTo>
                <a:cubicBezTo>
                  <a:pt x="17217" y="7020"/>
                  <a:pt x="17217" y="7027"/>
                  <a:pt x="17216" y="7044"/>
                </a:cubicBezTo>
                <a:cubicBezTo>
                  <a:pt x="17251" y="7005"/>
                  <a:pt x="17269" y="6956"/>
                  <a:pt x="17293" y="6908"/>
                </a:cubicBezTo>
                <a:cubicBezTo>
                  <a:pt x="17330" y="6835"/>
                  <a:pt x="17369" y="6738"/>
                  <a:pt x="17433" y="6683"/>
                </a:cubicBezTo>
                <a:cubicBezTo>
                  <a:pt x="17440" y="6679"/>
                  <a:pt x="17447" y="6676"/>
                  <a:pt x="17454" y="6672"/>
                </a:cubicBezTo>
                <a:cubicBezTo>
                  <a:pt x="17489" y="6719"/>
                  <a:pt x="17491" y="6759"/>
                  <a:pt x="17498" y="6818"/>
                </a:cubicBezTo>
                <a:cubicBezTo>
                  <a:pt x="17505" y="6880"/>
                  <a:pt x="17511" y="6944"/>
                  <a:pt x="17538" y="7000"/>
                </a:cubicBezTo>
                <a:cubicBezTo>
                  <a:pt x="17557" y="7039"/>
                  <a:pt x="17592" y="7079"/>
                  <a:pt x="17641" y="7069"/>
                </a:cubicBezTo>
                <a:cubicBezTo>
                  <a:pt x="17654" y="7063"/>
                  <a:pt x="17668" y="7057"/>
                  <a:pt x="17681" y="7051"/>
                </a:cubicBezTo>
              </a:path>
              <a:path w="8367" h="6788">
                <a:moveTo>
                  <a:pt x="17785" y="6780"/>
                </a:moveTo>
                <a:cubicBezTo>
                  <a:pt x="17760" y="6833"/>
                  <a:pt x="17743" y="6878"/>
                  <a:pt x="17738" y="6937"/>
                </a:cubicBezTo>
                <a:cubicBezTo>
                  <a:pt x="17734" y="6980"/>
                  <a:pt x="17728" y="7044"/>
                  <a:pt x="17764" y="7076"/>
                </a:cubicBezTo>
                <a:cubicBezTo>
                  <a:pt x="17799" y="7107"/>
                  <a:pt x="17852" y="7064"/>
                  <a:pt x="17874" y="7039"/>
                </a:cubicBezTo>
                <a:cubicBezTo>
                  <a:pt x="17927" y="6979"/>
                  <a:pt x="17945" y="6900"/>
                  <a:pt x="17957" y="6824"/>
                </a:cubicBezTo>
                <a:cubicBezTo>
                  <a:pt x="17966" y="6769"/>
                  <a:pt x="17975" y="6695"/>
                  <a:pt x="17928" y="6653"/>
                </a:cubicBezTo>
                <a:cubicBezTo>
                  <a:pt x="17888" y="6618"/>
                  <a:pt x="17855" y="6683"/>
                  <a:pt x="17840" y="6711"/>
                </a:cubicBezTo>
                <a:cubicBezTo>
                  <a:pt x="17829" y="6740"/>
                  <a:pt x="17825" y="6753"/>
                  <a:pt x="17817" y="6774"/>
                </a:cubicBezTo>
              </a:path>
              <a:path w="8367" h="6788">
                <a:moveTo>
                  <a:pt x="16699" y="8158"/>
                </a:moveTo>
                <a:cubicBezTo>
                  <a:pt x="16669" y="8171"/>
                  <a:pt x="16681" y="8169"/>
                  <a:pt x="16663" y="8196"/>
                </a:cubicBezTo>
                <a:cubicBezTo>
                  <a:pt x="16504" y="8431"/>
                  <a:pt x="16378" y="8695"/>
                  <a:pt x="16240" y="8943"/>
                </a:cubicBezTo>
                <a:cubicBezTo>
                  <a:pt x="16141" y="9122"/>
                  <a:pt x="16040" y="9300"/>
                  <a:pt x="15954" y="9486"/>
                </a:cubicBezTo>
                <a:cubicBezTo>
                  <a:pt x="15921" y="9556"/>
                  <a:pt x="15933" y="9585"/>
                  <a:pt x="15880" y="9641"/>
                </a:cubicBezTo>
              </a:path>
              <a:path w="8367" h="6788">
                <a:moveTo>
                  <a:pt x="15739" y="9100"/>
                </a:moveTo>
                <a:cubicBezTo>
                  <a:pt x="15731" y="9144"/>
                  <a:pt x="15723" y="9193"/>
                  <a:pt x="15720" y="9241"/>
                </a:cubicBezTo>
                <a:cubicBezTo>
                  <a:pt x="15713" y="9349"/>
                  <a:pt x="15697" y="9455"/>
                  <a:pt x="15681" y="9562"/>
                </a:cubicBezTo>
                <a:cubicBezTo>
                  <a:pt x="15665" y="9668"/>
                  <a:pt x="15640" y="9778"/>
                  <a:pt x="15642" y="9885"/>
                </a:cubicBezTo>
                <a:cubicBezTo>
                  <a:pt x="15644" y="9964"/>
                  <a:pt x="15695" y="9964"/>
                  <a:pt x="15760" y="9948"/>
                </a:cubicBezTo>
                <a:cubicBezTo>
                  <a:pt x="15855" y="9924"/>
                  <a:pt x="15945" y="9880"/>
                  <a:pt x="16032" y="9837"/>
                </a:cubicBezTo>
                <a:cubicBezTo>
                  <a:pt x="16118" y="9794"/>
                  <a:pt x="16206" y="9754"/>
                  <a:pt x="16288" y="9705"/>
                </a:cubicBezTo>
                <a:cubicBezTo>
                  <a:pt x="16315" y="9689"/>
                  <a:pt x="16338" y="9673"/>
                  <a:pt x="16363" y="9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51600" y="2125800"/>
            <a:ext cx="847800" cy="465120"/>
          </a:xfrm>
          <a:custGeom>
            <a:avLst/>
            <a:gdLst/>
            <a:ahLst/>
            <a:rect l="l" t="t" r="r" b="b"/>
            <a:pathLst>
              <a:path w="2355" h="1290">
                <a:moveTo>
                  <a:pt x="22205" y="5905"/>
                </a:moveTo>
                <a:cubicBezTo>
                  <a:pt x="22162" y="5987"/>
                  <a:pt x="22133" y="6072"/>
                  <a:pt x="22104" y="6160"/>
                </a:cubicBezTo>
                <a:cubicBezTo>
                  <a:pt x="22054" y="6312"/>
                  <a:pt x="22003" y="6464"/>
                  <a:pt x="21953" y="6616"/>
                </a:cubicBezTo>
                <a:cubicBezTo>
                  <a:pt x="21913" y="6738"/>
                  <a:pt x="21875" y="6861"/>
                  <a:pt x="21836" y="6984"/>
                </a:cubicBezTo>
                <a:cubicBezTo>
                  <a:pt x="21824" y="7021"/>
                  <a:pt x="21818" y="7054"/>
                  <a:pt x="21811" y="7090"/>
                </a:cubicBezTo>
                <a:cubicBezTo>
                  <a:pt x="21862" y="7034"/>
                  <a:pt x="21893" y="6967"/>
                  <a:pt x="21933" y="6901"/>
                </a:cubicBezTo>
                <a:cubicBezTo>
                  <a:pt x="21984" y="6816"/>
                  <a:pt x="22037" y="6722"/>
                  <a:pt x="22108" y="6651"/>
                </a:cubicBezTo>
                <a:cubicBezTo>
                  <a:pt x="22156" y="6603"/>
                  <a:pt x="22200" y="6595"/>
                  <a:pt x="22242" y="6653"/>
                </a:cubicBezTo>
                <a:cubicBezTo>
                  <a:pt x="22291" y="6721"/>
                  <a:pt x="22310" y="6815"/>
                  <a:pt x="22320" y="6896"/>
                </a:cubicBezTo>
                <a:cubicBezTo>
                  <a:pt x="22330" y="6978"/>
                  <a:pt x="22325" y="7056"/>
                  <a:pt x="22316" y="7138"/>
                </a:cubicBezTo>
                <a:cubicBezTo>
                  <a:pt x="22312" y="7169"/>
                  <a:pt x="22312" y="7178"/>
                  <a:pt x="22297" y="7194"/>
                </a:cubicBezTo>
              </a:path>
              <a:path w="2355" h="1290">
                <a:moveTo>
                  <a:pt x="22461" y="6864"/>
                </a:moveTo>
                <a:cubicBezTo>
                  <a:pt x="22498" y="6839"/>
                  <a:pt x="22536" y="6819"/>
                  <a:pt x="22574" y="6796"/>
                </a:cubicBezTo>
                <a:cubicBezTo>
                  <a:pt x="22628" y="6763"/>
                  <a:pt x="22690" y="6726"/>
                  <a:pt x="22722" y="6670"/>
                </a:cubicBezTo>
                <a:cubicBezTo>
                  <a:pt x="22740" y="6639"/>
                  <a:pt x="22733" y="6630"/>
                  <a:pt x="22722" y="6601"/>
                </a:cubicBezTo>
                <a:cubicBezTo>
                  <a:pt x="22676" y="6596"/>
                  <a:pt x="22643" y="6600"/>
                  <a:pt x="22605" y="6633"/>
                </a:cubicBezTo>
                <a:cubicBezTo>
                  <a:pt x="22544" y="6686"/>
                  <a:pt x="22501" y="6764"/>
                  <a:pt x="22475" y="6840"/>
                </a:cubicBezTo>
                <a:cubicBezTo>
                  <a:pt x="22447" y="6921"/>
                  <a:pt x="22437" y="7016"/>
                  <a:pt x="22514" y="7067"/>
                </a:cubicBezTo>
                <a:cubicBezTo>
                  <a:pt x="22568" y="7103"/>
                  <a:pt x="22660" y="7081"/>
                  <a:pt x="22715" y="7055"/>
                </a:cubicBezTo>
                <a:cubicBezTo>
                  <a:pt x="22735" y="7043"/>
                  <a:pt x="22755" y="7030"/>
                  <a:pt x="22775" y="7018"/>
                </a:cubicBezTo>
              </a:path>
              <a:path w="2355" h="1290">
                <a:moveTo>
                  <a:pt x="23230" y="6003"/>
                </a:moveTo>
                <a:cubicBezTo>
                  <a:pt x="23208" y="6079"/>
                  <a:pt x="23185" y="6153"/>
                  <a:pt x="23163" y="6229"/>
                </a:cubicBezTo>
                <a:cubicBezTo>
                  <a:pt x="23101" y="6446"/>
                  <a:pt x="23035" y="6661"/>
                  <a:pt x="22979" y="6880"/>
                </a:cubicBezTo>
                <a:cubicBezTo>
                  <a:pt x="22960" y="6956"/>
                  <a:pt x="22922" y="7063"/>
                  <a:pt x="22925" y="7143"/>
                </a:cubicBezTo>
                <a:cubicBezTo>
                  <a:pt x="22928" y="7148"/>
                  <a:pt x="22930" y="7154"/>
                  <a:pt x="22933" y="7159"/>
                </a:cubicBezTo>
              </a:path>
              <a:path w="2355" h="1290">
                <a:moveTo>
                  <a:pt x="22766" y="6612"/>
                </a:moveTo>
                <a:cubicBezTo>
                  <a:pt x="22755" y="6617"/>
                  <a:pt x="22745" y="6621"/>
                  <a:pt x="22734" y="6626"/>
                </a:cubicBezTo>
                <a:cubicBezTo>
                  <a:pt x="22766" y="6671"/>
                  <a:pt x="22808" y="6684"/>
                  <a:pt x="22865" y="6693"/>
                </a:cubicBezTo>
                <a:cubicBezTo>
                  <a:pt x="22946" y="6706"/>
                  <a:pt x="23038" y="6713"/>
                  <a:pt x="23120" y="6702"/>
                </a:cubicBezTo>
                <a:cubicBezTo>
                  <a:pt x="23175" y="6695"/>
                  <a:pt x="23224" y="6688"/>
                  <a:pt x="23278" y="6677"/>
                </a:cubicBezTo>
              </a:path>
              <a:path w="2355" h="1290">
                <a:moveTo>
                  <a:pt x="23235" y="6834"/>
                </a:moveTo>
                <a:cubicBezTo>
                  <a:pt x="23285" y="6842"/>
                  <a:pt x="23308" y="6842"/>
                  <a:pt x="23355" y="6820"/>
                </a:cubicBezTo>
                <a:cubicBezTo>
                  <a:pt x="23397" y="6800"/>
                  <a:pt x="23445" y="6773"/>
                  <a:pt x="23475" y="6736"/>
                </a:cubicBezTo>
                <a:cubicBezTo>
                  <a:pt x="23493" y="6714"/>
                  <a:pt x="23515" y="6665"/>
                  <a:pt x="23482" y="6644"/>
                </a:cubicBezTo>
                <a:cubicBezTo>
                  <a:pt x="23446" y="6621"/>
                  <a:pt x="23400" y="6636"/>
                  <a:pt x="23367" y="6656"/>
                </a:cubicBezTo>
                <a:cubicBezTo>
                  <a:pt x="23312" y="6689"/>
                  <a:pt x="23266" y="6738"/>
                  <a:pt x="23239" y="6797"/>
                </a:cubicBezTo>
                <a:cubicBezTo>
                  <a:pt x="23214" y="6852"/>
                  <a:pt x="23208" y="6920"/>
                  <a:pt x="23232" y="6976"/>
                </a:cubicBezTo>
                <a:cubicBezTo>
                  <a:pt x="23251" y="7022"/>
                  <a:pt x="23296" y="7071"/>
                  <a:pt x="23348" y="7080"/>
                </a:cubicBezTo>
                <a:cubicBezTo>
                  <a:pt x="23401" y="7089"/>
                  <a:pt x="23450" y="7071"/>
                  <a:pt x="23487" y="7035"/>
                </a:cubicBezTo>
                <a:cubicBezTo>
                  <a:pt x="23494" y="7026"/>
                  <a:pt x="23502" y="7018"/>
                  <a:pt x="23509" y="7009"/>
                </a:cubicBezTo>
              </a:path>
              <a:path w="2355" h="1290">
                <a:moveTo>
                  <a:pt x="23653" y="6771"/>
                </a:moveTo>
                <a:cubicBezTo>
                  <a:pt x="23649" y="6824"/>
                  <a:pt x="23640" y="6878"/>
                  <a:pt x="23625" y="6930"/>
                </a:cubicBezTo>
                <a:cubicBezTo>
                  <a:pt x="23614" y="6968"/>
                  <a:pt x="23602" y="7006"/>
                  <a:pt x="23584" y="7041"/>
                </a:cubicBezTo>
                <a:cubicBezTo>
                  <a:pt x="23601" y="6991"/>
                  <a:pt x="23620" y="6941"/>
                  <a:pt x="23643" y="6893"/>
                </a:cubicBezTo>
                <a:cubicBezTo>
                  <a:pt x="23672" y="6833"/>
                  <a:pt x="23706" y="6774"/>
                  <a:pt x="23749" y="6723"/>
                </a:cubicBezTo>
                <a:cubicBezTo>
                  <a:pt x="23780" y="6687"/>
                  <a:pt x="23813" y="6653"/>
                  <a:pt x="23860" y="6640"/>
                </a:cubicBezTo>
                <a:cubicBezTo>
                  <a:pt x="23879" y="6639"/>
                  <a:pt x="23887" y="6638"/>
                  <a:pt x="23899" y="6631"/>
                </a:cubicBezTo>
              </a:path>
              <a:path w="2355" h="1290">
                <a:moveTo>
                  <a:pt x="24078" y="6714"/>
                </a:moveTo>
                <a:cubicBezTo>
                  <a:pt x="24069" y="6754"/>
                  <a:pt x="24055" y="6792"/>
                  <a:pt x="24050" y="6833"/>
                </a:cubicBezTo>
                <a:cubicBezTo>
                  <a:pt x="24047" y="6861"/>
                  <a:pt x="24051" y="6891"/>
                  <a:pt x="24080" y="6905"/>
                </a:cubicBezTo>
                <a:cubicBezTo>
                  <a:pt x="24116" y="6922"/>
                  <a:pt x="24148" y="6873"/>
                  <a:pt x="24158" y="6845"/>
                </a:cubicBezTo>
                <a:cubicBezTo>
                  <a:pt x="24174" y="6802"/>
                  <a:pt x="24162" y="6748"/>
                  <a:pt x="24146" y="6707"/>
                </a:cubicBezTo>
                <a:cubicBezTo>
                  <a:pt x="24128" y="6661"/>
                  <a:pt x="24122" y="6646"/>
                  <a:pt x="24078" y="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8680" y="3616200"/>
            <a:ext cx="1461960" cy="559080"/>
          </a:xfrm>
          <a:custGeom>
            <a:avLst/>
            <a:gdLst/>
            <a:ahLst/>
            <a:rect l="l" t="t" r="r" b="b"/>
            <a:pathLst>
              <a:path w="4064" h="1553">
                <a:moveTo>
                  <a:pt x="14829" y="10414"/>
                </a:moveTo>
                <a:cubicBezTo>
                  <a:pt x="14754" y="10410"/>
                  <a:pt x="14694" y="10413"/>
                  <a:pt x="14603" y="10458"/>
                </a:cubicBezTo>
                <a:cubicBezTo>
                  <a:pt x="14379" y="10569"/>
                  <a:pt x="14130" y="10719"/>
                  <a:pt x="13955" y="10901"/>
                </a:cubicBezTo>
                <a:cubicBezTo>
                  <a:pt x="13924" y="10940"/>
                  <a:pt x="13914" y="10948"/>
                  <a:pt x="13911" y="10981"/>
                </a:cubicBezTo>
                <a:cubicBezTo>
                  <a:pt x="13973" y="11011"/>
                  <a:pt x="14012" y="11024"/>
                  <a:pt x="14091" y="11026"/>
                </a:cubicBezTo>
                <a:cubicBezTo>
                  <a:pt x="14216" y="11029"/>
                  <a:pt x="14380" y="10996"/>
                  <a:pt x="14497" y="11049"/>
                </a:cubicBezTo>
                <a:cubicBezTo>
                  <a:pt x="14564" y="11079"/>
                  <a:pt x="14547" y="11134"/>
                  <a:pt x="14523" y="11187"/>
                </a:cubicBezTo>
                <a:cubicBezTo>
                  <a:pt x="14485" y="11270"/>
                  <a:pt x="14419" y="11340"/>
                  <a:pt x="14352" y="11401"/>
                </a:cubicBezTo>
                <a:cubicBezTo>
                  <a:pt x="14283" y="11465"/>
                  <a:pt x="14095" y="11625"/>
                  <a:pt x="13987" y="11596"/>
                </a:cubicBezTo>
                <a:cubicBezTo>
                  <a:pt x="13932" y="11581"/>
                  <a:pt x="13952" y="11561"/>
                  <a:pt x="13946" y="11522"/>
                </a:cubicBezTo>
              </a:path>
              <a:path w="4064" h="1553">
                <a:moveTo>
                  <a:pt x="14899" y="10926"/>
                </a:moveTo>
                <a:cubicBezTo>
                  <a:pt x="14876" y="10979"/>
                  <a:pt x="14842" y="11025"/>
                  <a:pt x="14818" y="11078"/>
                </a:cubicBezTo>
                <a:cubicBezTo>
                  <a:pt x="14787" y="11148"/>
                  <a:pt x="14758" y="11224"/>
                  <a:pt x="14763" y="11302"/>
                </a:cubicBezTo>
                <a:cubicBezTo>
                  <a:pt x="14767" y="11364"/>
                  <a:pt x="14801" y="11403"/>
                  <a:pt x="14864" y="11402"/>
                </a:cubicBezTo>
                <a:cubicBezTo>
                  <a:pt x="14923" y="11401"/>
                  <a:pt x="14984" y="11355"/>
                  <a:pt x="15014" y="11307"/>
                </a:cubicBezTo>
                <a:cubicBezTo>
                  <a:pt x="15053" y="11245"/>
                  <a:pt x="15059" y="11148"/>
                  <a:pt x="15017" y="11086"/>
                </a:cubicBezTo>
                <a:cubicBezTo>
                  <a:pt x="14991" y="11048"/>
                  <a:pt x="14943" y="11027"/>
                  <a:pt x="14899" y="11032"/>
                </a:cubicBezTo>
                <a:cubicBezTo>
                  <a:pt x="14867" y="11039"/>
                  <a:pt x="14856" y="11041"/>
                  <a:pt x="14839" y="11056"/>
                </a:cubicBezTo>
              </a:path>
              <a:path w="4064" h="1553">
                <a:moveTo>
                  <a:pt x="15608" y="10114"/>
                </a:moveTo>
                <a:cubicBezTo>
                  <a:pt x="15589" y="10195"/>
                  <a:pt x="15556" y="10276"/>
                  <a:pt x="15531" y="10356"/>
                </a:cubicBezTo>
                <a:cubicBezTo>
                  <a:pt x="15483" y="10508"/>
                  <a:pt x="15443" y="10661"/>
                  <a:pt x="15411" y="10817"/>
                </a:cubicBezTo>
                <a:cubicBezTo>
                  <a:pt x="15385" y="10942"/>
                  <a:pt x="15360" y="11072"/>
                  <a:pt x="15347" y="11199"/>
                </a:cubicBezTo>
                <a:cubicBezTo>
                  <a:pt x="15341" y="11253"/>
                  <a:pt x="15357" y="11293"/>
                  <a:pt x="15372" y="11326"/>
                </a:cubicBezTo>
              </a:path>
              <a:path w="4064" h="1553">
                <a:moveTo>
                  <a:pt x="15714" y="10834"/>
                </a:moveTo>
                <a:cubicBezTo>
                  <a:pt x="15708" y="10879"/>
                  <a:pt x="15689" y="10929"/>
                  <a:pt x="15675" y="10975"/>
                </a:cubicBezTo>
                <a:cubicBezTo>
                  <a:pt x="15655" y="11041"/>
                  <a:pt x="15633" y="11110"/>
                  <a:pt x="15633" y="11180"/>
                </a:cubicBezTo>
                <a:cubicBezTo>
                  <a:pt x="15633" y="11218"/>
                  <a:pt x="15646" y="11262"/>
                  <a:pt x="15693" y="11247"/>
                </a:cubicBezTo>
                <a:cubicBezTo>
                  <a:pt x="15761" y="11225"/>
                  <a:pt x="15814" y="11148"/>
                  <a:pt x="15857" y="11095"/>
                </a:cubicBezTo>
                <a:cubicBezTo>
                  <a:pt x="15875" y="11072"/>
                  <a:pt x="15890" y="11050"/>
                  <a:pt x="15903" y="11025"/>
                </a:cubicBezTo>
                <a:cubicBezTo>
                  <a:pt x="15884" y="11055"/>
                  <a:pt x="15866" y="11085"/>
                  <a:pt x="15859" y="11120"/>
                </a:cubicBezTo>
                <a:cubicBezTo>
                  <a:pt x="15850" y="11170"/>
                  <a:pt x="15873" y="11193"/>
                  <a:pt x="15919" y="11203"/>
                </a:cubicBezTo>
                <a:cubicBezTo>
                  <a:pt x="15970" y="11214"/>
                  <a:pt x="16011" y="11193"/>
                  <a:pt x="16058" y="11176"/>
                </a:cubicBezTo>
              </a:path>
              <a:path w="4064" h="1553">
                <a:moveTo>
                  <a:pt x="16579" y="10044"/>
                </a:moveTo>
                <a:cubicBezTo>
                  <a:pt x="16579" y="10128"/>
                  <a:pt x="16554" y="10209"/>
                  <a:pt x="16536" y="10291"/>
                </a:cubicBezTo>
                <a:cubicBezTo>
                  <a:pt x="16503" y="10444"/>
                  <a:pt x="16464" y="10595"/>
                  <a:pt x="16434" y="10749"/>
                </a:cubicBezTo>
                <a:cubicBezTo>
                  <a:pt x="16413" y="10858"/>
                  <a:pt x="16395" y="10968"/>
                  <a:pt x="16381" y="11078"/>
                </a:cubicBezTo>
                <a:cubicBezTo>
                  <a:pt x="16375" y="11118"/>
                  <a:pt x="16374" y="11128"/>
                  <a:pt x="16367" y="11152"/>
                </a:cubicBezTo>
              </a:path>
              <a:path w="4064" h="1553">
                <a:moveTo>
                  <a:pt x="16072" y="10794"/>
                </a:moveTo>
                <a:cubicBezTo>
                  <a:pt x="16122" y="10789"/>
                  <a:pt x="16176" y="10784"/>
                  <a:pt x="16229" y="10781"/>
                </a:cubicBezTo>
                <a:cubicBezTo>
                  <a:pt x="16312" y="10777"/>
                  <a:pt x="16395" y="10780"/>
                  <a:pt x="16478" y="10774"/>
                </a:cubicBezTo>
                <a:cubicBezTo>
                  <a:pt x="16536" y="10770"/>
                  <a:pt x="16592" y="10759"/>
                  <a:pt x="16649" y="10771"/>
                </a:cubicBezTo>
                <a:cubicBezTo>
                  <a:pt x="16686" y="10779"/>
                  <a:pt x="16702" y="10811"/>
                  <a:pt x="16706" y="10848"/>
                </a:cubicBezTo>
                <a:cubicBezTo>
                  <a:pt x="16711" y="10895"/>
                  <a:pt x="16702" y="10950"/>
                  <a:pt x="16692" y="10996"/>
                </a:cubicBezTo>
                <a:cubicBezTo>
                  <a:pt x="16684" y="11032"/>
                  <a:pt x="16675" y="11075"/>
                  <a:pt x="16660" y="11109"/>
                </a:cubicBezTo>
                <a:cubicBezTo>
                  <a:pt x="16642" y="11152"/>
                  <a:pt x="16682" y="11044"/>
                  <a:pt x="16683" y="11007"/>
                </a:cubicBezTo>
              </a:path>
              <a:path w="4064" h="1553">
                <a:moveTo>
                  <a:pt x="16782" y="10324"/>
                </a:moveTo>
                <a:cubicBezTo>
                  <a:pt x="16784" y="10315"/>
                  <a:pt x="16787" y="10307"/>
                  <a:pt x="16789" y="10298"/>
                </a:cubicBezTo>
                <a:cubicBezTo>
                  <a:pt x="16777" y="10324"/>
                  <a:pt x="16778" y="10351"/>
                  <a:pt x="16787" y="10377"/>
                </a:cubicBezTo>
                <a:cubicBezTo>
                  <a:pt x="16792" y="10384"/>
                  <a:pt x="16796" y="10390"/>
                  <a:pt x="16801" y="10397"/>
                </a:cubicBezTo>
              </a:path>
              <a:path w="4064" h="1553">
                <a:moveTo>
                  <a:pt x="17034" y="10965"/>
                </a:moveTo>
                <a:cubicBezTo>
                  <a:pt x="17020" y="11009"/>
                  <a:pt x="17003" y="11056"/>
                  <a:pt x="16995" y="11102"/>
                </a:cubicBezTo>
                <a:cubicBezTo>
                  <a:pt x="16993" y="11127"/>
                  <a:pt x="16992" y="11134"/>
                  <a:pt x="16997" y="11150"/>
                </a:cubicBezTo>
                <a:cubicBezTo>
                  <a:pt x="17055" y="11160"/>
                  <a:pt x="17084" y="11143"/>
                  <a:pt x="17129" y="11099"/>
                </a:cubicBezTo>
                <a:cubicBezTo>
                  <a:pt x="17186" y="11043"/>
                  <a:pt x="17235" y="10962"/>
                  <a:pt x="17258" y="10885"/>
                </a:cubicBezTo>
                <a:cubicBezTo>
                  <a:pt x="17269" y="10848"/>
                  <a:pt x="17281" y="10763"/>
                  <a:pt x="17224" y="10753"/>
                </a:cubicBezTo>
                <a:cubicBezTo>
                  <a:pt x="17164" y="10742"/>
                  <a:pt x="17090" y="10821"/>
                  <a:pt x="17055" y="10857"/>
                </a:cubicBezTo>
                <a:cubicBezTo>
                  <a:pt x="17000" y="10914"/>
                  <a:pt x="16951" y="10982"/>
                  <a:pt x="16919" y="11055"/>
                </a:cubicBezTo>
                <a:cubicBezTo>
                  <a:pt x="16900" y="11100"/>
                  <a:pt x="16902" y="11127"/>
                  <a:pt x="16942" y="11134"/>
                </a:cubicBezTo>
              </a:path>
              <a:path w="4064" h="1553">
                <a:moveTo>
                  <a:pt x="17493" y="10779"/>
                </a:moveTo>
                <a:cubicBezTo>
                  <a:pt x="17523" y="10825"/>
                  <a:pt x="17527" y="10840"/>
                  <a:pt x="17526" y="10898"/>
                </a:cubicBezTo>
                <a:cubicBezTo>
                  <a:pt x="17525" y="10953"/>
                  <a:pt x="17513" y="11007"/>
                  <a:pt x="17498" y="11060"/>
                </a:cubicBezTo>
                <a:cubicBezTo>
                  <a:pt x="17492" y="11082"/>
                  <a:pt x="17484" y="11103"/>
                  <a:pt x="17478" y="11125"/>
                </a:cubicBezTo>
                <a:cubicBezTo>
                  <a:pt x="17523" y="11078"/>
                  <a:pt x="17563" y="11030"/>
                  <a:pt x="17613" y="10988"/>
                </a:cubicBezTo>
                <a:cubicBezTo>
                  <a:pt x="17674" y="10937"/>
                  <a:pt x="17745" y="10888"/>
                  <a:pt x="17828" y="10884"/>
                </a:cubicBezTo>
                <a:cubicBezTo>
                  <a:pt x="17896" y="10881"/>
                  <a:pt x="17931" y="10920"/>
                  <a:pt x="17953" y="10979"/>
                </a:cubicBezTo>
                <a:cubicBezTo>
                  <a:pt x="17970" y="11023"/>
                  <a:pt x="17978" y="11075"/>
                  <a:pt x="17971" y="11120"/>
                </a:cubicBezTo>
                <a:cubicBezTo>
                  <a:pt x="17969" y="11126"/>
                  <a:pt x="17966" y="11133"/>
                  <a:pt x="17964" y="11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5640" y="2987640"/>
            <a:ext cx="1231920" cy="744480"/>
          </a:xfrm>
          <a:custGeom>
            <a:avLst/>
            <a:gdLst/>
            <a:ahLst/>
            <a:rect l="l" t="t" r="r" b="b"/>
            <a:pathLst>
              <a:path w="3424" h="2065">
                <a:moveTo>
                  <a:pt x="22568" y="8301"/>
                </a:moveTo>
                <a:cubicBezTo>
                  <a:pt x="22522" y="8338"/>
                  <a:pt x="22489" y="8376"/>
                  <a:pt x="22452" y="8426"/>
                </a:cubicBezTo>
                <a:cubicBezTo>
                  <a:pt x="22343" y="8572"/>
                  <a:pt x="22236" y="8720"/>
                  <a:pt x="22125" y="8865"/>
                </a:cubicBezTo>
                <a:cubicBezTo>
                  <a:pt x="21904" y="9154"/>
                  <a:pt x="21670" y="9437"/>
                  <a:pt x="21459" y="9733"/>
                </a:cubicBezTo>
                <a:cubicBezTo>
                  <a:pt x="21458" y="9735"/>
                  <a:pt x="21345" y="9902"/>
                  <a:pt x="21407" y="9827"/>
                </a:cubicBezTo>
                <a:cubicBezTo>
                  <a:pt x="21428" y="9791"/>
                  <a:pt x="21435" y="9780"/>
                  <a:pt x="21443" y="9754"/>
                </a:cubicBezTo>
              </a:path>
              <a:path w="3424" h="2065">
                <a:moveTo>
                  <a:pt x="22602" y="8435"/>
                </a:moveTo>
                <a:cubicBezTo>
                  <a:pt x="22617" y="8470"/>
                  <a:pt x="22633" y="8516"/>
                  <a:pt x="22653" y="8549"/>
                </a:cubicBezTo>
                <a:cubicBezTo>
                  <a:pt x="22703" y="8631"/>
                  <a:pt x="22777" y="8706"/>
                  <a:pt x="22847" y="8772"/>
                </a:cubicBezTo>
                <a:cubicBezTo>
                  <a:pt x="22969" y="8888"/>
                  <a:pt x="23098" y="8996"/>
                  <a:pt x="23226" y="9105"/>
                </a:cubicBezTo>
                <a:cubicBezTo>
                  <a:pt x="23488" y="9329"/>
                  <a:pt x="23751" y="9575"/>
                  <a:pt x="23962" y="9850"/>
                </a:cubicBezTo>
                <a:cubicBezTo>
                  <a:pt x="24004" y="9904"/>
                  <a:pt x="24045" y="9956"/>
                  <a:pt x="24089" y="10008"/>
                </a:cubicBezTo>
              </a:path>
              <a:path w="3424" h="2065">
                <a:moveTo>
                  <a:pt x="24239" y="9529"/>
                </a:moveTo>
                <a:cubicBezTo>
                  <a:pt x="24246" y="9577"/>
                  <a:pt x="24236" y="9622"/>
                  <a:pt x="24232" y="9671"/>
                </a:cubicBezTo>
                <a:cubicBezTo>
                  <a:pt x="24225" y="9755"/>
                  <a:pt x="24229" y="9836"/>
                  <a:pt x="24234" y="9920"/>
                </a:cubicBezTo>
                <a:cubicBezTo>
                  <a:pt x="24240" y="10023"/>
                  <a:pt x="24250" y="10126"/>
                  <a:pt x="24260" y="10229"/>
                </a:cubicBezTo>
                <a:cubicBezTo>
                  <a:pt x="24264" y="10271"/>
                  <a:pt x="24266" y="10313"/>
                  <a:pt x="24269" y="10354"/>
                </a:cubicBezTo>
                <a:cubicBezTo>
                  <a:pt x="24227" y="10367"/>
                  <a:pt x="24205" y="10347"/>
                  <a:pt x="24161" y="10337"/>
                </a:cubicBezTo>
                <a:cubicBezTo>
                  <a:pt x="24084" y="10320"/>
                  <a:pt x="23999" y="10313"/>
                  <a:pt x="23920" y="10315"/>
                </a:cubicBezTo>
                <a:cubicBezTo>
                  <a:pt x="23844" y="10317"/>
                  <a:pt x="23761" y="10331"/>
                  <a:pt x="23685" y="10326"/>
                </a:cubicBezTo>
                <a:cubicBezTo>
                  <a:pt x="23654" y="10318"/>
                  <a:pt x="23645" y="10315"/>
                  <a:pt x="23625" y="10312"/>
                </a:cubicBezTo>
              </a:path>
              <a:path w="3424" h="2065">
                <a:moveTo>
                  <a:pt x="21079" y="9431"/>
                </a:moveTo>
                <a:cubicBezTo>
                  <a:pt x="21033" y="9467"/>
                  <a:pt x="20993" y="9497"/>
                  <a:pt x="20959" y="9546"/>
                </a:cubicBezTo>
                <a:cubicBezTo>
                  <a:pt x="20903" y="9627"/>
                  <a:pt x="20869" y="9723"/>
                  <a:pt x="20855" y="9820"/>
                </a:cubicBezTo>
                <a:cubicBezTo>
                  <a:pt x="20841" y="9919"/>
                  <a:pt x="20851" y="10016"/>
                  <a:pt x="20896" y="10105"/>
                </a:cubicBezTo>
                <a:cubicBezTo>
                  <a:pt x="20938" y="10187"/>
                  <a:pt x="21009" y="10215"/>
                  <a:pt x="21099" y="10213"/>
                </a:cubicBezTo>
                <a:cubicBezTo>
                  <a:pt x="21218" y="10210"/>
                  <a:pt x="21336" y="10151"/>
                  <a:pt x="21443" y="10105"/>
                </a:cubicBezTo>
                <a:cubicBezTo>
                  <a:pt x="21548" y="10060"/>
                  <a:pt x="21651" y="10010"/>
                  <a:pt x="21760" y="9975"/>
                </a:cubicBezTo>
                <a:cubicBezTo>
                  <a:pt x="21796" y="9963"/>
                  <a:pt x="21833" y="9955"/>
                  <a:pt x="21870" y="9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50160" y="3733920"/>
            <a:ext cx="912600" cy="352440"/>
          </a:xfrm>
          <a:custGeom>
            <a:avLst/>
            <a:gdLst/>
            <a:ahLst/>
            <a:rect l="l" t="t" r="r" b="b"/>
            <a:pathLst>
              <a:path w="2536" h="979">
                <a:moveTo>
                  <a:pt x="19844" y="10760"/>
                </a:moveTo>
                <a:cubicBezTo>
                  <a:pt x="19842" y="10719"/>
                  <a:pt x="19840" y="10694"/>
                  <a:pt x="19798" y="10677"/>
                </a:cubicBezTo>
                <a:cubicBezTo>
                  <a:pt x="19753" y="10659"/>
                  <a:pt x="19692" y="10670"/>
                  <a:pt x="19647" y="10684"/>
                </a:cubicBezTo>
                <a:cubicBezTo>
                  <a:pt x="19564" y="10710"/>
                  <a:pt x="19491" y="10759"/>
                  <a:pt x="19430" y="10820"/>
                </a:cubicBezTo>
                <a:cubicBezTo>
                  <a:pt x="19366" y="10883"/>
                  <a:pt x="19320" y="10958"/>
                  <a:pt x="19308" y="11048"/>
                </a:cubicBezTo>
                <a:cubicBezTo>
                  <a:pt x="19297" y="11125"/>
                  <a:pt x="19325" y="11195"/>
                  <a:pt x="19380" y="11249"/>
                </a:cubicBezTo>
                <a:cubicBezTo>
                  <a:pt x="19439" y="11307"/>
                  <a:pt x="19513" y="11328"/>
                  <a:pt x="19592" y="11341"/>
                </a:cubicBezTo>
                <a:cubicBezTo>
                  <a:pt x="19655" y="11352"/>
                  <a:pt x="19710" y="11333"/>
                  <a:pt x="19772" y="11323"/>
                </a:cubicBezTo>
              </a:path>
              <a:path w="2536" h="979">
                <a:moveTo>
                  <a:pt x="20038" y="10974"/>
                </a:moveTo>
                <a:cubicBezTo>
                  <a:pt x="19995" y="11027"/>
                  <a:pt x="19962" y="11070"/>
                  <a:pt x="19947" y="11138"/>
                </a:cubicBezTo>
                <a:cubicBezTo>
                  <a:pt x="19938" y="11179"/>
                  <a:pt x="19930" y="11237"/>
                  <a:pt x="19959" y="11273"/>
                </a:cubicBezTo>
                <a:cubicBezTo>
                  <a:pt x="19985" y="11306"/>
                  <a:pt x="20029" y="11288"/>
                  <a:pt x="20056" y="11266"/>
                </a:cubicBezTo>
                <a:cubicBezTo>
                  <a:pt x="20097" y="11232"/>
                  <a:pt x="20123" y="11177"/>
                  <a:pt x="20132" y="11125"/>
                </a:cubicBezTo>
                <a:cubicBezTo>
                  <a:pt x="20141" y="11072"/>
                  <a:pt x="20135" y="11012"/>
                  <a:pt x="20100" y="10970"/>
                </a:cubicBezTo>
                <a:cubicBezTo>
                  <a:pt x="20070" y="10934"/>
                  <a:pt x="20029" y="10941"/>
                  <a:pt x="19994" y="10965"/>
                </a:cubicBezTo>
                <a:cubicBezTo>
                  <a:pt x="19963" y="10986"/>
                  <a:pt x="19911" y="11044"/>
                  <a:pt x="19910" y="11085"/>
                </a:cubicBezTo>
                <a:cubicBezTo>
                  <a:pt x="19914" y="11097"/>
                  <a:pt x="19918" y="11110"/>
                  <a:pt x="19922" y="11122"/>
                </a:cubicBezTo>
              </a:path>
              <a:path w="2536" h="979">
                <a:moveTo>
                  <a:pt x="20545" y="10370"/>
                </a:moveTo>
                <a:cubicBezTo>
                  <a:pt x="20484" y="10441"/>
                  <a:pt x="20455" y="10516"/>
                  <a:pt x="20425" y="10605"/>
                </a:cubicBezTo>
                <a:cubicBezTo>
                  <a:pt x="20391" y="10705"/>
                  <a:pt x="20366" y="10806"/>
                  <a:pt x="20347" y="10910"/>
                </a:cubicBezTo>
                <a:cubicBezTo>
                  <a:pt x="20332" y="10989"/>
                  <a:pt x="20320" y="11071"/>
                  <a:pt x="20315" y="11152"/>
                </a:cubicBezTo>
                <a:cubicBezTo>
                  <a:pt x="20313" y="11183"/>
                  <a:pt x="20313" y="11212"/>
                  <a:pt x="20308" y="11243"/>
                </a:cubicBezTo>
              </a:path>
              <a:path w="2536" h="979">
                <a:moveTo>
                  <a:pt x="20711" y="10375"/>
                </a:moveTo>
                <a:cubicBezTo>
                  <a:pt x="20674" y="10421"/>
                  <a:pt x="20664" y="10473"/>
                  <a:pt x="20647" y="10531"/>
                </a:cubicBezTo>
                <a:cubicBezTo>
                  <a:pt x="20618" y="10633"/>
                  <a:pt x="20594" y="10736"/>
                  <a:pt x="20576" y="10841"/>
                </a:cubicBezTo>
                <a:cubicBezTo>
                  <a:pt x="20560" y="10930"/>
                  <a:pt x="20548" y="11021"/>
                  <a:pt x="20541" y="11111"/>
                </a:cubicBezTo>
                <a:cubicBezTo>
                  <a:pt x="20539" y="11136"/>
                  <a:pt x="20521" y="11224"/>
                  <a:pt x="20536" y="11245"/>
                </a:cubicBezTo>
                <a:cubicBezTo>
                  <a:pt x="20541" y="11246"/>
                  <a:pt x="20547" y="11246"/>
                  <a:pt x="20552" y="11247"/>
                </a:cubicBezTo>
              </a:path>
              <a:path w="2536" h="979">
                <a:moveTo>
                  <a:pt x="20818" y="11046"/>
                </a:moveTo>
                <a:cubicBezTo>
                  <a:pt x="20798" y="11084"/>
                  <a:pt x="20777" y="11116"/>
                  <a:pt x="20785" y="11161"/>
                </a:cubicBezTo>
                <a:cubicBezTo>
                  <a:pt x="20793" y="11205"/>
                  <a:pt x="20840" y="11216"/>
                  <a:pt x="20878" y="11205"/>
                </a:cubicBezTo>
                <a:cubicBezTo>
                  <a:pt x="20919" y="11193"/>
                  <a:pt x="20958" y="11164"/>
                  <a:pt x="20979" y="11127"/>
                </a:cubicBezTo>
                <a:cubicBezTo>
                  <a:pt x="20999" y="11091"/>
                  <a:pt x="21005" y="11040"/>
                  <a:pt x="20984" y="11004"/>
                </a:cubicBezTo>
                <a:cubicBezTo>
                  <a:pt x="20958" y="10959"/>
                  <a:pt x="20904" y="10961"/>
                  <a:pt x="20860" y="10972"/>
                </a:cubicBezTo>
                <a:cubicBezTo>
                  <a:pt x="20780" y="10993"/>
                  <a:pt x="20709" y="11053"/>
                  <a:pt x="20658" y="11115"/>
                </a:cubicBezTo>
                <a:cubicBezTo>
                  <a:pt x="20629" y="11150"/>
                  <a:pt x="20615" y="11176"/>
                  <a:pt x="20635" y="11206"/>
                </a:cubicBezTo>
                <a:cubicBezTo>
                  <a:pt x="20646" y="11227"/>
                  <a:pt x="20654" y="11231"/>
                  <a:pt x="20677" y="11213"/>
                </a:cubicBezTo>
              </a:path>
              <a:path w="2536" h="979">
                <a:moveTo>
                  <a:pt x="21220" y="10954"/>
                </a:moveTo>
                <a:cubicBezTo>
                  <a:pt x="21203" y="11007"/>
                  <a:pt x="21179" y="11060"/>
                  <a:pt x="21166" y="11115"/>
                </a:cubicBezTo>
                <a:cubicBezTo>
                  <a:pt x="21154" y="11163"/>
                  <a:pt x="21146" y="11210"/>
                  <a:pt x="21145" y="11259"/>
                </a:cubicBezTo>
                <a:cubicBezTo>
                  <a:pt x="21145" y="11296"/>
                  <a:pt x="21147" y="11302"/>
                  <a:pt x="21169" y="11279"/>
                </a:cubicBezTo>
              </a:path>
              <a:path w="2536" h="979">
                <a:moveTo>
                  <a:pt x="21247" y="10460"/>
                </a:moveTo>
                <a:cubicBezTo>
                  <a:pt x="21245" y="10451"/>
                  <a:pt x="21244" y="10443"/>
                  <a:pt x="21242" y="10434"/>
                </a:cubicBezTo>
              </a:path>
              <a:path w="2536" h="979">
                <a:moveTo>
                  <a:pt x="21711" y="10374"/>
                </a:moveTo>
                <a:cubicBezTo>
                  <a:pt x="21718" y="10439"/>
                  <a:pt x="21699" y="10515"/>
                  <a:pt x="21691" y="10584"/>
                </a:cubicBezTo>
                <a:cubicBezTo>
                  <a:pt x="21677" y="10711"/>
                  <a:pt x="21668" y="10838"/>
                  <a:pt x="21663" y="10966"/>
                </a:cubicBezTo>
                <a:cubicBezTo>
                  <a:pt x="21659" y="11079"/>
                  <a:pt x="21653" y="11199"/>
                  <a:pt x="21676" y="11311"/>
                </a:cubicBezTo>
                <a:cubicBezTo>
                  <a:pt x="21683" y="11335"/>
                  <a:pt x="21685" y="11343"/>
                  <a:pt x="21706" y="11341"/>
                </a:cubicBezTo>
                <a:cubicBezTo>
                  <a:pt x="21720" y="11295"/>
                  <a:pt x="21733" y="11252"/>
                  <a:pt x="21734" y="11203"/>
                </a:cubicBezTo>
                <a:cubicBezTo>
                  <a:pt x="21736" y="11143"/>
                  <a:pt x="21731" y="11079"/>
                  <a:pt x="21695" y="11028"/>
                </a:cubicBezTo>
                <a:cubicBezTo>
                  <a:pt x="21665" y="10985"/>
                  <a:pt x="21614" y="10987"/>
                  <a:pt x="21570" y="11005"/>
                </a:cubicBezTo>
                <a:cubicBezTo>
                  <a:pt x="21513" y="11028"/>
                  <a:pt x="21462" y="11081"/>
                  <a:pt x="21430" y="11132"/>
                </a:cubicBezTo>
                <a:cubicBezTo>
                  <a:pt x="21406" y="11170"/>
                  <a:pt x="21379" y="11236"/>
                  <a:pt x="21393" y="11282"/>
                </a:cubicBezTo>
                <a:cubicBezTo>
                  <a:pt x="21409" y="11334"/>
                  <a:pt x="21475" y="11337"/>
                  <a:pt x="21520" y="11330"/>
                </a:cubicBezTo>
                <a:cubicBezTo>
                  <a:pt x="21609" y="11315"/>
                  <a:pt x="21695" y="11277"/>
                  <a:pt x="21778" y="11247"/>
                </a:cubicBezTo>
                <a:cubicBezTo>
                  <a:pt x="21799" y="11240"/>
                  <a:pt x="21820" y="11233"/>
                  <a:pt x="21841" y="11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56520" y="3906720"/>
            <a:ext cx="649440" cy="538200"/>
          </a:xfrm>
          <a:custGeom>
            <a:avLst/>
            <a:gdLst/>
            <a:ahLst/>
            <a:rect l="l" t="t" r="r" b="b"/>
            <a:pathLst>
              <a:path w="1805" h="1497">
                <a:moveTo>
                  <a:pt x="23306" y="10866"/>
                </a:moveTo>
                <a:cubicBezTo>
                  <a:pt x="23252" y="10847"/>
                  <a:pt x="23206" y="10864"/>
                  <a:pt x="23149" y="10880"/>
                </a:cubicBezTo>
                <a:cubicBezTo>
                  <a:pt x="23052" y="10907"/>
                  <a:pt x="22954" y="10935"/>
                  <a:pt x="22859" y="10970"/>
                </a:cubicBezTo>
                <a:cubicBezTo>
                  <a:pt x="22800" y="10992"/>
                  <a:pt x="22717" y="11013"/>
                  <a:pt x="22669" y="11056"/>
                </a:cubicBezTo>
                <a:cubicBezTo>
                  <a:pt x="22665" y="11062"/>
                  <a:pt x="22660" y="11068"/>
                  <a:pt x="22656" y="11074"/>
                </a:cubicBezTo>
                <a:cubicBezTo>
                  <a:pt x="22693" y="11119"/>
                  <a:pt x="22724" y="11128"/>
                  <a:pt x="22780" y="11146"/>
                </a:cubicBezTo>
                <a:cubicBezTo>
                  <a:pt x="22849" y="11167"/>
                  <a:pt x="22920" y="11182"/>
                  <a:pt x="22988" y="11206"/>
                </a:cubicBezTo>
                <a:cubicBezTo>
                  <a:pt x="23035" y="11222"/>
                  <a:pt x="23098" y="11244"/>
                  <a:pt x="23129" y="11286"/>
                </a:cubicBezTo>
                <a:cubicBezTo>
                  <a:pt x="23156" y="11322"/>
                  <a:pt x="23135" y="11358"/>
                  <a:pt x="23105" y="11383"/>
                </a:cubicBezTo>
                <a:cubicBezTo>
                  <a:pt x="23039" y="11439"/>
                  <a:pt x="22945" y="11464"/>
                  <a:pt x="22863" y="11485"/>
                </a:cubicBezTo>
                <a:cubicBezTo>
                  <a:pt x="22848" y="11489"/>
                  <a:pt x="22735" y="11517"/>
                  <a:pt x="22722" y="11487"/>
                </a:cubicBezTo>
                <a:cubicBezTo>
                  <a:pt x="22729" y="11465"/>
                  <a:pt x="22731" y="11457"/>
                  <a:pt x="22741" y="11445"/>
                </a:cubicBezTo>
              </a:path>
              <a:path w="1805" h="1497">
                <a:moveTo>
                  <a:pt x="23325" y="11005"/>
                </a:moveTo>
                <a:cubicBezTo>
                  <a:pt x="23363" y="11027"/>
                  <a:pt x="23327" y="11069"/>
                  <a:pt x="23318" y="11115"/>
                </a:cubicBezTo>
                <a:cubicBezTo>
                  <a:pt x="23306" y="11182"/>
                  <a:pt x="23291" y="11250"/>
                  <a:pt x="23285" y="11318"/>
                </a:cubicBezTo>
                <a:cubicBezTo>
                  <a:pt x="23282" y="11355"/>
                  <a:pt x="23269" y="11424"/>
                  <a:pt x="23297" y="11457"/>
                </a:cubicBezTo>
                <a:cubicBezTo>
                  <a:pt x="23324" y="11488"/>
                  <a:pt x="23373" y="11458"/>
                  <a:pt x="23397" y="11441"/>
                </a:cubicBezTo>
                <a:cubicBezTo>
                  <a:pt x="23451" y="11404"/>
                  <a:pt x="23490" y="11352"/>
                  <a:pt x="23528" y="11300"/>
                </a:cubicBezTo>
                <a:cubicBezTo>
                  <a:pt x="23553" y="11266"/>
                  <a:pt x="23569" y="11230"/>
                  <a:pt x="23584" y="11191"/>
                </a:cubicBezTo>
                <a:cubicBezTo>
                  <a:pt x="23556" y="11219"/>
                  <a:pt x="23543" y="11250"/>
                  <a:pt x="23528" y="11289"/>
                </a:cubicBezTo>
                <a:cubicBezTo>
                  <a:pt x="23513" y="11328"/>
                  <a:pt x="23499" y="11371"/>
                  <a:pt x="23507" y="11413"/>
                </a:cubicBezTo>
                <a:cubicBezTo>
                  <a:pt x="23512" y="11438"/>
                  <a:pt x="23541" y="11462"/>
                  <a:pt x="23569" y="11455"/>
                </a:cubicBezTo>
                <a:cubicBezTo>
                  <a:pt x="23601" y="11441"/>
                  <a:pt x="23609" y="11436"/>
                  <a:pt x="23630" y="11431"/>
                </a:cubicBezTo>
              </a:path>
              <a:path w="1805" h="1497">
                <a:moveTo>
                  <a:pt x="23988" y="11064"/>
                </a:moveTo>
                <a:cubicBezTo>
                  <a:pt x="23937" y="11066"/>
                  <a:pt x="23900" y="11068"/>
                  <a:pt x="23849" y="11083"/>
                </a:cubicBezTo>
                <a:cubicBezTo>
                  <a:pt x="23784" y="11103"/>
                  <a:pt x="23718" y="11130"/>
                  <a:pt x="23662" y="11169"/>
                </a:cubicBezTo>
                <a:cubicBezTo>
                  <a:pt x="23643" y="11182"/>
                  <a:pt x="23585" y="11223"/>
                  <a:pt x="23606" y="11254"/>
                </a:cubicBezTo>
                <a:cubicBezTo>
                  <a:pt x="23625" y="11283"/>
                  <a:pt x="23698" y="11285"/>
                  <a:pt x="23727" y="11289"/>
                </a:cubicBezTo>
                <a:cubicBezTo>
                  <a:pt x="23783" y="11297"/>
                  <a:pt x="23839" y="11300"/>
                  <a:pt x="23893" y="11314"/>
                </a:cubicBezTo>
                <a:cubicBezTo>
                  <a:pt x="23920" y="11321"/>
                  <a:pt x="23966" y="11328"/>
                  <a:pt x="23971" y="11363"/>
                </a:cubicBezTo>
                <a:cubicBezTo>
                  <a:pt x="23977" y="11410"/>
                  <a:pt x="23922" y="11454"/>
                  <a:pt x="23890" y="11478"/>
                </a:cubicBezTo>
                <a:cubicBezTo>
                  <a:pt x="23848" y="11510"/>
                  <a:pt x="23792" y="11541"/>
                  <a:pt x="23740" y="11554"/>
                </a:cubicBezTo>
                <a:cubicBezTo>
                  <a:pt x="23702" y="11564"/>
                  <a:pt x="23679" y="11561"/>
                  <a:pt x="23682" y="11520"/>
                </a:cubicBezTo>
                <a:cubicBezTo>
                  <a:pt x="23684" y="11513"/>
                  <a:pt x="23685" y="11505"/>
                  <a:pt x="23687" y="11498"/>
                </a:cubicBezTo>
              </a:path>
              <a:path w="1805" h="1497">
                <a:moveTo>
                  <a:pt x="24209" y="11183"/>
                </a:moveTo>
                <a:cubicBezTo>
                  <a:pt x="24220" y="11277"/>
                  <a:pt x="24205" y="11366"/>
                  <a:pt x="24183" y="11459"/>
                </a:cubicBezTo>
                <a:cubicBezTo>
                  <a:pt x="24123" y="11715"/>
                  <a:pt x="24045" y="11967"/>
                  <a:pt x="23988" y="12224"/>
                </a:cubicBezTo>
                <a:cubicBezTo>
                  <a:pt x="23975" y="12282"/>
                  <a:pt x="23970" y="12306"/>
                  <a:pt x="23941" y="12348"/>
                </a:cubicBezTo>
                <a:cubicBezTo>
                  <a:pt x="23928" y="12285"/>
                  <a:pt x="23922" y="12232"/>
                  <a:pt x="23925" y="12166"/>
                </a:cubicBezTo>
                <a:cubicBezTo>
                  <a:pt x="23933" y="12004"/>
                  <a:pt x="23971" y="11841"/>
                  <a:pt x="24017" y="11686"/>
                </a:cubicBezTo>
                <a:cubicBezTo>
                  <a:pt x="24064" y="11527"/>
                  <a:pt x="24144" y="11227"/>
                  <a:pt x="24317" y="11154"/>
                </a:cubicBezTo>
                <a:cubicBezTo>
                  <a:pt x="24380" y="11128"/>
                  <a:pt x="24428" y="11176"/>
                  <a:pt x="24449" y="11229"/>
                </a:cubicBezTo>
                <a:cubicBezTo>
                  <a:pt x="24476" y="11298"/>
                  <a:pt x="24454" y="11372"/>
                  <a:pt x="24414" y="11431"/>
                </a:cubicBezTo>
                <a:cubicBezTo>
                  <a:pt x="24368" y="11498"/>
                  <a:pt x="24299" y="11549"/>
                  <a:pt x="24223" y="11575"/>
                </a:cubicBezTo>
                <a:cubicBezTo>
                  <a:pt x="24176" y="11591"/>
                  <a:pt x="24078" y="11615"/>
                  <a:pt x="24036" y="11575"/>
                </a:cubicBezTo>
                <a:cubicBezTo>
                  <a:pt x="24008" y="11548"/>
                  <a:pt x="24020" y="11541"/>
                  <a:pt x="24011" y="1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1143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981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472400">
            <a:off x="2971800" y="3352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15238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1905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676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2860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812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3526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962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3716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9810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1295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286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724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1240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838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66688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5720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3716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43434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4832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581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28600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4100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52578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5638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685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9144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86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1337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1447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80988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8620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28195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990720"/>
            <a:ext cx="83808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267080"/>
            <a:ext cx="83844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0384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685800"/>
            <a:ext cx="83844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13716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7432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886200"/>
            <a:ext cx="236196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04920"/>
            <a:ext cx="2361960" cy="236196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16765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1337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6668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1430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4479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1981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4572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80988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267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27672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3341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80988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1:57:08Z</dcterms:created>
  <dc:creator>lyoder</dc:creator>
  <dc:description/>
  <dc:language>en-US</dc:language>
  <cp:lastModifiedBy>lyoder</cp:lastModifiedBy>
  <dcterms:modified xsi:type="dcterms:W3CDTF">2007-09-14T17:16:33Z</dcterms:modified>
  <cp:revision>4</cp:revision>
  <dc:subject/>
  <dc:title>Mixtures, Solutions, Elements Compounds</dc:title>
</cp:coreProperties>
</file>