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999-F9D3-47A3-A05D-45DBBE8B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D51B-9E1F-4C97-8B71-FA3261DB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486-E830-46FB-BB9C-67BEC55F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5AD-CC86-47D4-B361-19149364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475-1979-44BD-9ECE-D1236AE5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FC6-8131-454E-BA34-8F65E2B2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8CC-F7A3-44EF-81FA-F5A02B4C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BA3F-0A1F-4022-8A7B-7735A8FD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F95-FA3D-4B78-8D8B-ABEAC465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BB9-23B6-408E-BB05-DB8E2E23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425-1FB6-4C79-BAC1-41FD5902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333-F40A-4107-83A1-3F325CFD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60FD-67D1-4F7C-A3CA-1200EE890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forms F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 of investigation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457200" y="-2133720"/>
            <a:ext cx="975348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743200" y="-1447920"/>
            <a:ext cx="1463040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29:26Z</dcterms:created>
  <dc:creator>lyoder</dc:creator>
  <dc:description/>
  <dc:language>en-US</dc:language>
  <cp:lastModifiedBy>lyoder</cp:lastModifiedBy>
  <dcterms:modified xsi:type="dcterms:W3CDTF">2007-09-17T01:29:50Z</dcterms:modified>
  <cp:revision>1</cp:revision>
  <dc:subject/>
  <dc:title>Landforms FOSS</dc:title>
</cp:coreProperties>
</file>