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EAC-70DE-46B6-88B7-42BFB8F5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9088-F4CB-491E-AFED-C3DB3B09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BDA-7DDA-4C2F-B282-1549041B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10FA-253C-44E4-81A6-CD702E02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3BA-460D-47D1-8946-E10BCA85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4375-8B4A-4DC6-A557-F0BE0EC5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DE9D-F954-48F4-B5B9-CCB3F15E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71E-499F-4E9A-81A3-A2D19319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C9F5-BB6F-43C5-96B6-FA975345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98E3-7141-4658-A785-0DFF43C3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0D57-D85F-486B-83B0-42DB9BE0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3392-29E5-411D-A241-70BA0431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36B8-FF90-48C5-B8E7-C0F6C2794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forms F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 of investigations 1 an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457200" y="-2133720"/>
            <a:ext cx="9753480" cy="146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743200" y="-1447920"/>
            <a:ext cx="1463040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29:26Z</dcterms:created>
  <dc:creator>lyoder</dc:creator>
  <dc:description/>
  <dc:language>en-US</dc:language>
  <cp:lastModifiedBy>lyoder</cp:lastModifiedBy>
  <dcterms:modified xsi:type="dcterms:W3CDTF">2007-09-17T01:29:50Z</dcterms:modified>
  <cp:revision>1</cp:revision>
  <dc:subject/>
  <dc:title>Landforms FOSS</dc:title>
</cp:coreProperties>
</file>