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799D-1038-41A2-90D9-FF061429D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F19C-5BC5-4202-8545-28549233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18CE-9D76-4485-BEC7-722B34D1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BD96-A3A1-4E3D-A931-338C6775D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66AB-9C20-4A7C-B5C5-DD39554E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40DA-9E74-4290-A00F-79764B25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5EE5-BA84-4F24-9DAB-2B626698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C1F4-860F-41A2-B793-D552681C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FA53-89B7-4BF9-A690-50C2A5CE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942E-7AB4-470D-9646-AE36F733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4372-B4F3-4265-9DC0-170F5C77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7A60-1014-42D2-A7D3-7B7CCCCE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FDC6-3E5C-445B-A20C-F18FA66C1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forms F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s of investigations 1 an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9092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457200" y="-2133720"/>
            <a:ext cx="9753480" cy="146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2743200" y="-1447920"/>
            <a:ext cx="1463040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29:26Z</dcterms:created>
  <dc:creator>lyoder</dc:creator>
  <dc:description/>
  <dc:language>en-US</dc:language>
  <cp:lastModifiedBy>lyoder</cp:lastModifiedBy>
  <dcterms:modified xsi:type="dcterms:W3CDTF">2007-09-17T01:29:50Z</dcterms:modified>
  <cp:revision>1</cp:revision>
  <dc:subject/>
  <dc:title>Landforms FOSS</dc:title>
</cp:coreProperties>
</file>