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F79-ECD5-45E4-82FF-1744FCE5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173-C92A-4B08-9879-A931195F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F82-DFE1-47DD-AB11-F8B81FC5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8E7-68C6-48C5-8973-D12B5230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54A-7C40-48FC-AF39-3BE9DAD8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8FE-4F21-4835-A319-0249A79B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F29-E7C4-4FD2-8A36-0A1DF357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391-6293-4B02-B1E2-2076849B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F4C-5269-41F5-8A89-ED5D4E0B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AB5-E71F-47A0-96DB-339E3477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884-93E1-4CEB-916B-D8F7CE13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050-56DE-4884-98E5-316D6CA9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B978-C77A-4885-882F-6130A8A74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orms F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investigation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2133720"/>
            <a:ext cx="975348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743200" y="-1447920"/>
            <a:ext cx="1463040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29:26Z</dcterms:created>
  <dc:creator>lyoder</dc:creator>
  <dc:description/>
  <dc:language>en-US</dc:language>
  <cp:lastModifiedBy>lyoder</cp:lastModifiedBy>
  <dcterms:modified xsi:type="dcterms:W3CDTF">2007-09-17T01:29:50Z</dcterms:modified>
  <cp:revision>1</cp:revision>
  <dc:subject/>
  <dc:title>Landforms FOSS</dc:title>
</cp:coreProperties>
</file>