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11C5-FF0D-47B4-9D3F-425D6EA8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DE65-0A4D-406C-9EF8-DCD01F81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5D64-EAF1-491D-AA5E-9ECDD1EE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04C-E990-4162-87E2-3853C23C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951A-2453-4949-9F7A-AE5BA06C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1A5-A369-4D9F-BEED-038C33DB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B422-48FB-4A68-A67F-133BF11F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F260-5F26-4374-A371-B6587A7E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9F3-0CCC-487C-B6DB-BFC01911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0E0-10F8-4165-93B6-8CE5E0E7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5249-8970-4ECE-ACC1-2EBF8616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75CA-155C-43DC-9AA6-174EEB57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11C0-1EFA-4A08-8A3A-BC9758C66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forms F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 of investigations 1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457200" y="-2133720"/>
            <a:ext cx="9753480" cy="146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743200" y="-1447920"/>
            <a:ext cx="1463040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29:26Z</dcterms:created>
  <dc:creator>lyoder</dc:creator>
  <dc:description/>
  <dc:language>en-US</dc:language>
  <cp:lastModifiedBy>lyoder</cp:lastModifiedBy>
  <dcterms:modified xsi:type="dcterms:W3CDTF">2007-09-17T01:29:50Z</dcterms:modified>
  <cp:revision>1</cp:revision>
  <dc:subject/>
  <dc:title>Landforms FOSS</dc:title>
</cp:coreProperties>
</file>